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7.png" ContentType="image/png"/>
  <Override PartName="/ppt/media/image11.jpeg" ContentType="image/jpe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6.png" ContentType="image/png"/>
  <Override PartName="/ppt/media/image2.png" ContentType="image/png"/>
  <Override PartName="/ppt/media/image3.png" ContentType="image/png"/>
  <Override PartName="/ppt/media/image17.jpeg" ContentType="image/jpeg"/>
  <Override PartName="/ppt/media/image4.png" ContentType="image/png"/>
  <Override PartName="/ppt/media/image5.jpeg" ContentType="image/jpeg"/>
  <Override PartName="/ppt/media/image14.jpeg" ContentType="image/jpeg"/>
  <Override PartName="/ppt/media/image8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notesMasterIdLst>
    <p:notesMasterId r:id="rId12"/>
  </p:notes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notesMaster" Target="notesMasters/notesMaster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dt" idx="3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eeece1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eeece1"/>
              </a:solidFill>
              <a:latin typeface="Lucida Sans Unicode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6"/>
          <p:cNvSpPr>
            <a:spLocks noGrp="1"/>
          </p:cNvSpPr>
          <p:nvPr>
            <p:ph type="sldNum" idx="3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122FD-0D00-47BD-85ED-D61E967262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8777B-AB78-4EB0-AD37-22CC64A0F0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0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 this to motivate circular motion involves accelera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DF054-C6F9-4572-A8F0-10BB85E6A6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A0447-61C6-471E-9DB6-B0C57DC150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0E2BC-35FC-41E0-9895-A231E81EB2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10709-2FE1-498D-9AC0-ACA98D5833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7E16B-4683-44EA-838D-16D0859858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D956A-7708-44D8-A9C5-0DDC194091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3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6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 this to motivate circular motion involves accelera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CE14C-F29D-4BA3-BF0A-4D7014DA28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6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 this to motivate circular motion involves accelera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2BC3E-4EAA-4C64-9ED4-64DD0856E3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9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6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 this to motivate circular motion involves accelera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3EA25-8245-48FB-868E-D1ACF423BD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6F7B2-D9FB-44CB-A056-6DDC5DEF1E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B05B9-26FB-4299-A28E-070352FE0F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5AD02-F5CD-4F70-A151-86A523964D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05DFA-2E5C-4C39-AF88-F44F697CD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8B91B-D55C-4C45-B3DB-AFC161101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F51977-13E9-498F-B217-AB4F9B60F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A0E883-A7D4-4DAA-8D28-638C19B3C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411333-4F78-42F1-BE5C-B6580173E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5CDE81-E381-4646-A9D7-BECE737D9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85A325-83A6-4E33-830C-8E6C9F376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7A592E-C2B3-4504-B3D1-1A0C47248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007C82-3D59-4226-90C8-9BEB42375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3ECEA2-9821-49F3-B8A3-ECAA6FE2D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5C1C80-FADE-408D-BF7B-1FD0BE1AE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2CE903-1A6B-435E-9BE9-72AD335B5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0D4D3-4132-42B8-8ED4-A82C97625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803CDE-90F4-4E56-BF7A-2847A331B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8A6AEE-F61E-4364-A6AA-26E33A1BD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951C3B-0F7A-4B91-B75B-0AFCA25AE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66439A-E6C9-448E-B080-B5F0232E7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435902-A8BC-4918-87ED-CC845CBBD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AFA924-F91D-4E3C-ADE0-54119BFB2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12D0E9-A8FC-4538-A19D-4892FABC2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FF4CB3-585E-4BB3-83CB-CD6DBB0B5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8BA949-A8A9-4AAD-9549-AC64986ED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F141B2-6F56-42E7-8656-D27494D8B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B14A7-A2B2-44FF-8B06-BFB8632E2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2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3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E83C64-1EC7-4AB5-9E20-DC433D662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53066-5F63-46D7-AB31-3883C3D92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E3207-3446-4744-94C7-981460797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6A505-B8DB-4B4E-989E-BA321DEF1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01619-5868-460F-867A-728798908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9E321-D6F9-44B0-B95E-BB1009DC6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0C865-F543-44C8-9C29-7CBBBB171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E55D8-10B6-4C14-B4D7-C27CB3D32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2BA7D-1E64-48DE-95FF-8F57C75BF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B8987-1277-4021-B5C6-CDFC1D757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B5690-483C-405D-B408-DE913B42A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8EC2F-AFD8-41D3-AE9E-080BBDF28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DDD15-48B6-498E-A619-DD63D4F57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E7B6C-4E30-458D-9A65-23CBD59BF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B4359E-933A-41DC-A39B-9468C141D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23A20D-C5EA-430C-AD84-B3FDF91A5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FBCD4D-1CFA-4273-8EE0-454E7033B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F671D5-5DF3-4FF7-AB80-BF52FDD42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D5B300-2562-4736-896E-789222667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6EFE9-D716-40ED-ADA4-1A1DD8D5B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9FEAE7-8327-45F3-8231-550608669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7EBB3E-3E5E-4937-8D4C-BE867514E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9A8393-7D99-440C-BFA0-ACC8B54E0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0E797F-27DD-4B1A-8EDD-4FD569193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53FA17-081B-4380-87DD-72837768D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4A4FAF-C15E-4297-BFCE-06BF871F9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C7E129-C953-4022-906B-D66C9F9B4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464D44-6212-4DEC-8EA0-E0B04FBC8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7D02F2-DD72-4FEA-8691-7D5C2C3C7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CFB0C4-8651-4782-A757-674BEC5C7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F888E-0112-4E72-8C83-FC72F7B06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DA4711-0006-43CA-BEC6-4D6B2C018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2D131A-A443-4DBE-902F-18563BB5D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F4D9B0-05A6-409A-809D-116295625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D6718A-0A4A-40CF-B794-1ED39EE0E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D626D5-FC3A-4FF8-B0E7-2604B8F1D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E7932C-8BDC-4923-9663-18D878EB6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11A9D8-5AF1-456A-8B0F-4D550E8D0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96697C-3126-4176-A63E-51D12BA30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2B8105-3075-4C51-A4E9-6026D212B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F340EE-1247-41E5-BA7E-3C4F17C57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6CF8C-FA08-4042-A007-EAB7DB32B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96A6D7-B3AB-4004-BF1F-60185ABEE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B8FC76-8758-4224-BCE6-30C3E781C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11E4C1-6096-457D-9F0A-6BEBE9000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497737-E3CB-48DA-9402-56D6025FC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917AEC-D7DD-4E9E-B199-114CC371E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ECE4E8-77DF-41B5-A69C-75B59B8BC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8FFA67-7D29-424C-8903-AC86D9098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65AC4F-3B17-4982-9BFF-00D1CFEC5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ACC121-0728-469C-A5ED-7A97F643D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DFEC5E-436E-42CC-8C44-16D2EB7E0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DD441-55DC-49A8-83AC-653E119A7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818431-2975-4F35-BC0F-A048D1DE3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4C2C9D-64AC-4538-8A98-AEA406A6F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4B2BA6-71F1-43CC-98FE-BC9852CD8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A19052-F7DA-4F46-A278-5EDF2BF5E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A82AE2-2B97-4461-A070-078AB174D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5A1F62-11DB-402B-AAA3-DA92E629F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160A1B-3F40-45BC-95B4-2B0A8D7AF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D1980D-CF92-4197-9E04-E450356E1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CC276F-AD5A-4C8D-B016-C8BB598CE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2D66FC-F228-4841-A1C0-D65A3D802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77734-FEB5-4B7D-AB68-9FCE029C1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35BE4E-049A-4638-967D-2CDE06E03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DCF3E3-C5FF-4979-994A-53949BF4D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BF17AF-2979-4A3B-83A2-08F71817C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C325A0-4C63-4831-9EE9-F1B06ED79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5FDBBC-3EA1-443F-A9DD-5A1F7774C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0429E7-9561-4722-A3E6-C65719545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10B759-F28E-4FA5-86D1-FA20A3EA4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1B22D0-1896-49C3-81C5-C5655B370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03A1D7-F241-484D-8BC2-198373B95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AC379C-867D-499B-B724-FFEE10ACC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B1D6B-72DA-43A1-A0E2-2DA93742A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5941EC-C947-45EB-9812-0F38D2DAF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422CB8-AE52-465E-9ED9-B3227070A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9B92F2-1828-4DDA-8ADF-59D81BAA6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E1B432-664B-4A43-AB3D-356451994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A5F9A3-0E3C-4D09-ACC2-8C8AF462B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102494-1F2D-44FB-9C8B-90D4791AE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C6892D-72FF-4DD4-AAEC-ADB2BA6EC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9BD005-EC0F-4CBE-B770-62C16FB33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790207-99D8-47B2-AC0D-885E8D2A2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44B443-97EA-4718-A5B0-67B9FF27A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D09C2-D0E9-47C8-9189-74BB6184E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1C76FD-63B3-4766-AA3A-A71ACB1BF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B5264F-A4FA-4B48-A0DA-A7F19ACE4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EE4C07-5590-49A5-AD75-3F5B74416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249832-71F2-40FE-B082-77DA86F26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C9072B-6CF3-422D-A732-85C72B382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3DA4DD-4CEE-42EC-9F36-3FBB73626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148E69-E5B1-43C9-A214-408DF7224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BDD86B-BDF4-4C1F-A66C-3BFE20510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56057A-0D21-4FA2-9158-CC3857911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E7563B-DFFE-44BB-918A-3C3A99147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a6b9db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1f497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8B390-5A37-49CC-927B-6EC4574E1EE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a6b9db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8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419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420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1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422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1f497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 type="dt" idx="28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 type="ftr" idx="29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 type="sldNum" idx="30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4AE7A-3680-4175-9F1F-08EC0FF11C2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9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154c8e"/>
              </a:gs>
              <a:gs pos="50000">
                <a:srgbClr val="5e91da"/>
              </a:gs>
              <a:gs pos="100000">
                <a:srgbClr val="154c8e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48" name="Group 1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6"/>
            <p:cNvSpPr/>
            <p:nvPr/>
          </p:nvSpPr>
          <p:spPr>
            <a:xfrm>
              <a:off x="1693440" y="4952880"/>
              <a:ext cx="7444440" cy="48672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720"/>
                <a:gd name="textAreaBottom" fmla="*/ 487080 h 48672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a6b9db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50" name="Freeform 7"/>
            <p:cNvSpPr/>
            <p:nvPr/>
          </p:nvSpPr>
          <p:spPr>
            <a:xfrm>
              <a:off x="44280" y="5236560"/>
              <a:ext cx="9093600" cy="786240"/>
            </a:xfrm>
            <a:custGeom>
              <a:avLst/>
              <a:gdLst>
                <a:gd name="textAreaLeft" fmla="*/ 0 w 9093600"/>
                <a:gd name="textAreaRight" fmla="*/ 9093960 w 9093600"/>
                <a:gd name="textAreaTop" fmla="*/ 0 h 786240"/>
                <a:gd name="textAreaBottom" fmla="*/ 786600 h 78624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grpSp>
          <p:nvGrpSpPr>
            <p:cNvPr id="51" name="Freeform 10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0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828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</p:grpSp>
        <p:pic>
          <p:nvPicPr>
            <p:cNvPr id="54" name="Straight Connector 11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1f497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9242E-4619-4947-BD6D-B1BE4D0971A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a6b9db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6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3265a1"/>
              </a:gs>
              <a:gs pos="100000">
                <a:srgbClr val="8aa8da"/>
              </a:gs>
            </a:gsLst>
            <a:lin ang="16200000"/>
          </a:gradFill>
          <a:ln cap="rnd" w="3240">
            <a:solidFill>
              <a:srgbClr val="385d8a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" name="Chevron 7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3265a1"/>
              </a:gs>
              <a:gs pos="100000">
                <a:srgbClr val="8aa8da"/>
              </a:gs>
            </a:gsLst>
            <a:lin ang="16200000"/>
          </a:gradFill>
          <a:ln cap="rnd" w="3240">
            <a:solidFill>
              <a:srgbClr val="385d8a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eeece1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eeece1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7211E-D74B-4306-8273-EBE5AAC1CF3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a6b9db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eeece1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eeece1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AF572-E12B-431E-9CFF-90348C53020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1f497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F4F0A-45B6-4D93-8891-6C46E55683D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a6b9db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eeece1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eeece1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6F5B2-B4F4-49F3-9467-53880B2B3FE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1f497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2B51E-C84E-42F0-AB5A-7301B2E8791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7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a6b9db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Freeform 8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323" name="Right Triangle 9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ight Triangle 9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326" name="Straight Connector 10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1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3265a1"/>
              </a:gs>
              <a:gs pos="100000">
                <a:srgbClr val="8aa8da"/>
              </a:gs>
            </a:gsLst>
            <a:lin ang="16200000"/>
          </a:gradFill>
          <a:ln cap="rnd" w="3240">
            <a:solidFill>
              <a:srgbClr val="385d8a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8" name="Chevron 12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3265a1"/>
              </a:gs>
              <a:gs pos="100000">
                <a:srgbClr val="8aa8da"/>
              </a:gs>
            </a:gsLst>
            <a:lin ang="16200000"/>
          </a:gradFill>
          <a:ln cap="rnd" w="3240">
            <a:solidFill>
              <a:srgbClr val="385d8a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eeece1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eeece1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CEEBC-CB3E-4526-99DA-2B0134C39ED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a6b9db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37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7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37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1f497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 type="dt" idx="25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 type="ftr" idx="26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 type="sldNum" idx="27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461D1-8948-4A05-AACB-345A29510D4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97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09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physicsclassroom.com/" TargetMode="External"/><Relationship Id="rId2" Type="http://schemas.openxmlformats.org/officeDocument/2006/relationships/hyperlink" Target="http://www.physicsclassroom.com/" TargetMode="External"/><Relationship Id="rId3" Type="http://schemas.openxmlformats.org/officeDocument/2006/relationships/hyperlink" Target="http://hyperphysics.phy-astr.gsu.edu/hbase/orbv.html" TargetMode="External"/><Relationship Id="rId4" Type="http://schemas.openxmlformats.org/officeDocument/2006/relationships/hyperlink" Target="http://hyperphysics.phy-astr.gsu.edu/hbase/orbv.html#co" TargetMode="External"/><Relationship Id="rId5" Type="http://schemas.openxmlformats.org/officeDocument/2006/relationships/hyperlink" Target="http://hyperphysics.phy-astr.gsu.edu/hbase/hframe.html" TargetMode="External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animations.physics.unsw.edu.au/mechanics/chapter3_circularmotion.html" TargetMode="Externa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file:///Physics%20Presentation.pptx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97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1" name="Rectangle 11" descr=""/>
          <p:cNvPicPr/>
          <p:nvPr/>
        </p:nvPicPr>
        <p:blipFill>
          <a:blip r:embed="rId1"/>
          <a:stretch/>
        </p:blipFill>
        <p:spPr>
          <a:xfrm>
            <a:off x="841320" y="-103320"/>
            <a:ext cx="7620120" cy="5675400"/>
          </a:xfrm>
          <a:prstGeom prst="rect">
            <a:avLst/>
          </a:prstGeom>
          <a:ln w="0">
            <a:noFill/>
          </a:ln>
        </p:spPr>
      </p:pic>
      <p:sp>
        <p:nvSpPr>
          <p:cNvPr id="472" name="Text Box 13"/>
          <p:cNvSpPr/>
          <p:nvPr/>
        </p:nvSpPr>
        <p:spPr>
          <a:xfrm>
            <a:off x="8723160" y="6583320"/>
            <a:ext cx="420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eece1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2" name="Rectangle 2" descr=""/>
          <p:cNvPicPr/>
          <p:nvPr/>
        </p:nvPicPr>
        <p:blipFill>
          <a:blip r:embed="rId1"/>
          <a:stretch/>
        </p:blipFill>
        <p:spPr>
          <a:xfrm>
            <a:off x="195120" y="152280"/>
            <a:ext cx="8498160" cy="1274760"/>
          </a:xfrm>
          <a:prstGeom prst="rect">
            <a:avLst/>
          </a:prstGeom>
          <a:ln w="0">
            <a:noFill/>
          </a:ln>
        </p:spPr>
      </p:pic>
      <p:sp>
        <p:nvSpPr>
          <p:cNvPr id="593" name="PlaceHolder 1"/>
          <p:cNvSpPr>
            <a:spLocks noGrp="1"/>
          </p:cNvSpPr>
          <p:nvPr>
            <p:ph/>
          </p:nvPr>
        </p:nvSpPr>
        <p:spPr>
          <a:xfrm>
            <a:off x="685440" y="17524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4f81bd"/>
              </a:buClr>
              <a:buSzPct val="68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In most cases, the string force not only has to provide the force required for circular motion, but also the force required to balance the gravitational force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4f81bd"/>
              </a:buClr>
              <a:buSzPct val="68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Important consequences: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4f81bd"/>
              </a:buClr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Lucida Sans Unicode"/>
              </a:rPr>
              <a:t>You can never swing an object with the string aligned with the horizontal plane.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4f81bd"/>
              </a:buClr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Lucida Sans Unicode"/>
              </a:rPr>
              <a:t>When the speed increases, the acceleration increases up to the point that the force required for circular motion exceeds the maximum force that can be provided by the string.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94" name="Picture 4" descr=""/>
          <p:cNvPicPr/>
          <p:nvPr/>
        </p:nvPicPr>
        <p:blipFill>
          <a:blip r:embed="rId2"/>
          <a:stretch/>
        </p:blipFill>
        <p:spPr>
          <a:xfrm>
            <a:off x="5270400" y="1600200"/>
            <a:ext cx="2797200" cy="2181240"/>
          </a:xfrm>
          <a:prstGeom prst="rect">
            <a:avLst/>
          </a:prstGeom>
          <a:ln w="0">
            <a:noFill/>
          </a:ln>
        </p:spPr>
      </p:pic>
      <p:pic>
        <p:nvPicPr>
          <p:cNvPr id="595" name="Picture 5" descr=""/>
          <p:cNvPicPr/>
          <p:nvPr/>
        </p:nvPicPr>
        <p:blipFill>
          <a:blip r:embed="rId3"/>
          <a:stretch/>
        </p:blipFill>
        <p:spPr>
          <a:xfrm>
            <a:off x="5268960" y="3944880"/>
            <a:ext cx="2797200" cy="218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6" name="Rectangle 2" descr=""/>
          <p:cNvPicPr/>
          <p:nvPr/>
        </p:nvPicPr>
        <p:blipFill>
          <a:blip r:embed="rId1"/>
          <a:stretch/>
        </p:blipFill>
        <p:spPr>
          <a:xfrm>
            <a:off x="225360" y="66600"/>
            <a:ext cx="8742600" cy="1360440"/>
          </a:xfrm>
          <a:prstGeom prst="rect">
            <a:avLst/>
          </a:prstGeom>
          <a:ln w="0">
            <a:noFill/>
          </a:ln>
        </p:spPr>
      </p:pic>
      <p:sp>
        <p:nvSpPr>
          <p:cNvPr id="597" name="PlaceHolder 1"/>
          <p:cNvSpPr>
            <a:spLocks noGrp="1"/>
          </p:cNvSpPr>
          <p:nvPr>
            <p:ph/>
          </p:nvPr>
        </p:nvSpPr>
        <p:spPr>
          <a:xfrm>
            <a:off x="151920" y="1523880"/>
            <a:ext cx="4800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4f81bd"/>
              </a:buClr>
              <a:buSzPct val="68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Lucida Sans Unicode"/>
              </a:rPr>
              <a:t>When you drive your car around a corner you carry out circular motion.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4f81bd"/>
              </a:buClr>
              <a:buSzPct val="68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Lucida Sans Unicode"/>
              </a:rPr>
              <a:t>In order to be able to carry out this type of motion, there must be a force present that provides the required acceleration towards the center of the circle.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4f81bd"/>
              </a:buClr>
              <a:buSzPct val="68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Lucida Sans Unicode"/>
              </a:rPr>
              <a:t>This required force is provided by the friction force between the tires and the road.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4f81bd"/>
              </a:buClr>
              <a:buSzPct val="68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Lucida Sans Unicode"/>
              </a:rPr>
              <a:t>But remember ….. The friction force has a maximum value, and there is a maximum speed with which you can make the turn.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98" name="Picture 4" descr=""/>
          <p:cNvPicPr/>
          <p:nvPr/>
        </p:nvPicPr>
        <p:blipFill>
          <a:blip r:embed="rId2"/>
          <a:stretch/>
        </p:blipFill>
        <p:spPr>
          <a:xfrm>
            <a:off x="4648320" y="2351160"/>
            <a:ext cx="4038480" cy="3029040"/>
          </a:xfrm>
          <a:prstGeom prst="rect">
            <a:avLst/>
          </a:prstGeom>
          <a:ln w="0">
            <a:noFill/>
          </a:ln>
        </p:spPr>
      </p:pic>
      <p:sp>
        <p:nvSpPr>
          <p:cNvPr id="599" name="Text Box 5"/>
          <p:cNvSpPr/>
          <p:nvPr/>
        </p:nvSpPr>
        <p:spPr>
          <a:xfrm>
            <a:off x="5172840" y="1828800"/>
            <a:ext cx="3445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Required force = Mv</a:t>
            </a:r>
            <a:r>
              <a:rPr b="0" lang="en-US" sz="2000" spc="-1" strike="noStrike" baseline="30000">
                <a:solidFill>
                  <a:srgbClr val="003399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/r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If v increases, the friction force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must increase and/or the radius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must increase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Arc 2"/>
          <p:cNvSpPr/>
          <p:nvPr/>
        </p:nvSpPr>
        <p:spPr>
          <a:xfrm flipV="1">
            <a:off x="5116680" y="2227680"/>
            <a:ext cx="3681360" cy="1351080"/>
          </a:xfrm>
          <a:custGeom>
            <a:avLst/>
            <a:gdLst>
              <a:gd name="textAreaLeft" fmla="*/ 0 w 3681360"/>
              <a:gd name="textAreaRight" fmla="*/ 3681720 w 3681360"/>
              <a:gd name="textAreaTop" fmla="*/ -360 h 1351080"/>
              <a:gd name="textAreaBottom" fmla="*/ 1351080 h 1351080"/>
            </a:gdLst>
            <a:ahLst/>
            <a:rect l="textAreaLeft" t="textAreaTop" r="textAreaRight" b="textAreaBottom"/>
            <a:pathLst>
              <a:path fill="none" w="43200" h="43200">
                <a:moveTo>
                  <a:pt x="35218" y="4834"/>
                </a:moveTo>
                <a:cubicBezTo>
                  <a:pt x="40268" y="8935"/>
                  <a:pt x="43200" y="15094"/>
                  <a:pt x="43200" y="21600"/>
                </a:cubicBezTo>
                <a:cubicBezTo>
                  <a:pt x="43200" y="33529"/>
                  <a:pt x="33529" y="43200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26482" y="-1"/>
                  <a:pt x="31220" y="1654"/>
                  <a:pt x="35042" y="4692"/>
                </a:cubicBezTo>
              </a:path>
              <a:path stroke="0" w="43200" h="43200">
                <a:moveTo>
                  <a:pt x="35218" y="4834"/>
                </a:moveTo>
                <a:cubicBezTo>
                  <a:pt x="40268" y="8935"/>
                  <a:pt x="43200" y="15094"/>
                  <a:pt x="43200" y="21600"/>
                </a:cubicBezTo>
                <a:cubicBezTo>
                  <a:pt x="43200" y="33529"/>
                  <a:pt x="33529" y="43200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26482" y="-1"/>
                  <a:pt x="31220" y="1654"/>
                  <a:pt x="35042" y="4692"/>
                </a:cubicBezTo>
                <a:lnTo>
                  <a:pt x="21600" y="21600"/>
                </a:lnTo>
                <a:close/>
              </a:path>
            </a:pathLst>
          </a:custGeom>
          <a:noFill/>
          <a:ln w="12600">
            <a:solidFill>
              <a:srgbClr val="1f497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01" name="Arc 3"/>
          <p:cNvSpPr/>
          <p:nvPr/>
        </p:nvSpPr>
        <p:spPr>
          <a:xfrm flipV="1">
            <a:off x="5097600" y="2212200"/>
            <a:ext cx="2208240" cy="1351080"/>
          </a:xfrm>
          <a:custGeom>
            <a:avLst/>
            <a:gdLst>
              <a:gd name="textAreaLeft" fmla="*/ 0 w 2208240"/>
              <a:gd name="textAreaRight" fmla="*/ 2208600 w 2208240"/>
              <a:gd name="textAreaTop" fmla="*/ -360 h 1351080"/>
              <a:gd name="textAreaBottom" fmla="*/ 1351080 h 1351080"/>
            </a:gdLst>
            <a:ahLst/>
            <a:rect l="textAreaLeft" t="textAreaTop" r="textAreaRight" b="textAreaBottom"/>
            <a:pathLst>
              <a:path fill="none" w="25915" h="43200">
                <a:moveTo>
                  <a:pt x="25247" y="42889"/>
                </a:moveTo>
                <a:cubicBezTo>
                  <a:pt x="24042" y="43096"/>
                  <a:pt x="22822" y="43199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23049" y="-1"/>
                  <a:pt x="24494" y="145"/>
                  <a:pt x="25914" y="435"/>
                </a:cubicBezTo>
              </a:path>
              <a:path stroke="0" w="25915" h="43200">
                <a:moveTo>
                  <a:pt x="25247" y="42889"/>
                </a:moveTo>
                <a:cubicBezTo>
                  <a:pt x="24042" y="43096"/>
                  <a:pt x="22822" y="43199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23049" y="-1"/>
                  <a:pt x="24494" y="145"/>
                  <a:pt x="25914" y="435"/>
                </a:cubicBezTo>
                <a:lnTo>
                  <a:pt x="21600" y="21600"/>
                </a:lnTo>
                <a:close/>
              </a:path>
            </a:pathLst>
          </a:custGeom>
          <a:noFill/>
          <a:ln w="38160">
            <a:solidFill>
              <a:srgbClr val="1f497d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02" name=""/>
          <p:cNvSpPr txBox="1"/>
          <p:nvPr/>
        </p:nvSpPr>
        <p:spPr>
          <a:xfrm>
            <a:off x="590040" y="657360"/>
            <a:ext cx="7944120" cy="170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39000"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You are driving a car with constant speed around a horizontal circular track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</a:t>
            </a:r>
            <a:r>
              <a:rPr b="0" lang="en-US" sz="1800" spc="-1" strike="noStrike">
                <a:solidFill>
                  <a:srgbClr val="ff0000"/>
                </a:solidFill>
                <a:latin typeface="Lucida Sans Unicode"/>
              </a:rPr>
              <a:t>Normal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n a piece of paper, draw a Free Body Diagram (FBD) for the car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How many forces are acting on the car?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A) 1  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) 2  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) 3  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) 4   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) 5</a:t>
            </a:r>
            <a:r>
              <a:rPr b="1" lang="en-US" sz="1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603" name="Rectangle 4" descr=""/>
          <p:cNvPicPr/>
          <p:nvPr/>
        </p:nvPicPr>
        <p:blipFill>
          <a:blip r:embed="rId1"/>
          <a:stretch/>
        </p:blipFill>
        <p:spPr>
          <a:xfrm>
            <a:off x="450720" y="-171360"/>
            <a:ext cx="7712280" cy="804600"/>
          </a:xfrm>
          <a:prstGeom prst="rect">
            <a:avLst/>
          </a:prstGeom>
          <a:ln w="0">
            <a:noFill/>
          </a:ln>
        </p:spPr>
      </p:pic>
      <p:grpSp>
        <p:nvGrpSpPr>
          <p:cNvPr id="604" name="Group 6"/>
          <p:cNvGrpSpPr/>
          <p:nvPr/>
        </p:nvGrpSpPr>
        <p:grpSpPr>
          <a:xfrm>
            <a:off x="4991040" y="2355840"/>
            <a:ext cx="504720" cy="441360"/>
            <a:chOff x="4991040" y="2355840"/>
            <a:chExt cx="504720" cy="441360"/>
          </a:xfrm>
        </p:grpSpPr>
        <p:sp>
          <p:nvSpPr>
            <p:cNvPr id="605" name="Oval 7"/>
            <p:cNvSpPr/>
            <p:nvPr/>
          </p:nvSpPr>
          <p:spPr>
            <a:xfrm>
              <a:off x="5016600" y="2654280"/>
              <a:ext cx="85680" cy="142920"/>
            </a:xfrm>
            <a:prstGeom prst="ellipse">
              <a:avLst/>
            </a:prstGeom>
            <a:solidFill>
              <a:srgbClr val="1f497d"/>
            </a:solidFill>
            <a:ln w="28440">
              <a:solidFill>
                <a:srgbClr val="eee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606" name="AutoShape 8"/>
            <p:cNvSpPr/>
            <p:nvPr/>
          </p:nvSpPr>
          <p:spPr>
            <a:xfrm>
              <a:off x="4991040" y="2403360"/>
              <a:ext cx="504720" cy="371520"/>
            </a:xfrm>
            <a:prstGeom prst="cube">
              <a:avLst>
                <a:gd name="adj" fmla="val 61365"/>
              </a:avLst>
            </a:prstGeom>
            <a:solidFill>
              <a:srgbClr val="ff3300"/>
            </a:solidFill>
            <a:ln w="19080">
              <a:solidFill>
                <a:srgbClr val="eee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607" name="AutoShape 9"/>
            <p:cNvSpPr/>
            <p:nvPr/>
          </p:nvSpPr>
          <p:spPr>
            <a:xfrm>
              <a:off x="5118120" y="2355840"/>
              <a:ext cx="263520" cy="203040"/>
            </a:xfrm>
            <a:prstGeom prst="cube">
              <a:avLst>
                <a:gd name="adj" fmla="val 36365"/>
              </a:avLst>
            </a:prstGeom>
            <a:solidFill>
              <a:srgbClr val="ff3300"/>
            </a:solidFill>
            <a:ln w="19080">
              <a:solidFill>
                <a:srgbClr val="eee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608" name="Oval 10"/>
            <p:cNvSpPr/>
            <p:nvPr/>
          </p:nvSpPr>
          <p:spPr>
            <a:xfrm>
              <a:off x="5302080" y="2654280"/>
              <a:ext cx="86040" cy="142920"/>
            </a:xfrm>
            <a:prstGeom prst="ellipse">
              <a:avLst/>
            </a:prstGeom>
            <a:solidFill>
              <a:srgbClr val="1f497d"/>
            </a:solidFill>
            <a:ln w="28440">
              <a:solidFill>
                <a:srgbClr val="eee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609" name="Oval 11"/>
            <p:cNvSpPr/>
            <p:nvPr/>
          </p:nvSpPr>
          <p:spPr>
            <a:xfrm>
              <a:off x="5410080" y="2543040"/>
              <a:ext cx="85680" cy="142920"/>
            </a:xfrm>
            <a:prstGeom prst="ellipse">
              <a:avLst/>
            </a:prstGeom>
            <a:solidFill>
              <a:srgbClr val="1f497d"/>
            </a:solidFill>
            <a:ln w="28440">
              <a:solidFill>
                <a:srgbClr val="eee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sp>
        <p:nvSpPr>
          <p:cNvPr id="610" name="Line 12"/>
          <p:cNvSpPr/>
          <p:nvPr/>
        </p:nvSpPr>
        <p:spPr>
          <a:xfrm>
            <a:off x="5197320" y="3108240"/>
            <a:ext cx="55800" cy="50760"/>
          </a:xfrm>
          <a:prstGeom prst="line">
            <a:avLst/>
          </a:prstGeom>
          <a:ln w="381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1" name="Text Box 13"/>
          <p:cNvSpPr/>
          <p:nvPr/>
        </p:nvSpPr>
        <p:spPr>
          <a:xfrm>
            <a:off x="8723160" y="6583320"/>
            <a:ext cx="420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2" name="Rectangle 14"/>
          <p:cNvSpPr/>
          <p:nvPr/>
        </p:nvSpPr>
        <p:spPr>
          <a:xfrm>
            <a:off x="2133720" y="4800600"/>
            <a:ext cx="5715000" cy="15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imes New Roman"/>
              </a:rPr>
              <a:t>The net force on the car is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A. Zero </a:t>
            </a:r>
            <a:br>
              <a:rPr sz="1800"/>
            </a:b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B. Pointing radially inward  (centripetal!)</a:t>
            </a:r>
            <a:br>
              <a:rPr sz="1800"/>
            </a:b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C. Pointing radially outward</a:t>
            </a:r>
            <a:r>
              <a:rPr b="0" lang="en-US" sz="1800" spc="-1" strike="noStrike">
                <a:solidFill>
                  <a:srgbClr val="003399"/>
                </a:solidFill>
                <a:latin typeface="Lucida Sans Unicode"/>
              </a:rPr>
              <a:t>  </a:t>
            </a:r>
            <a:r>
              <a:rPr b="0" lang="en-US" sz="1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(centrifugal?)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3" name="Line 39"/>
          <p:cNvSpPr/>
          <p:nvPr/>
        </p:nvSpPr>
        <p:spPr>
          <a:xfrm>
            <a:off x="5181480" y="281952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4" name="Line 40"/>
          <p:cNvSpPr/>
          <p:nvPr/>
        </p:nvSpPr>
        <p:spPr>
          <a:xfrm>
            <a:off x="5334120" y="2590920"/>
            <a:ext cx="15238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5" name="Text Box 41"/>
          <p:cNvSpPr/>
          <p:nvPr/>
        </p:nvSpPr>
        <p:spPr>
          <a:xfrm>
            <a:off x="4572000" y="42670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Lucida Sans Unicode"/>
              </a:rPr>
              <a:t>Gravity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6" name="Text Box 42"/>
          <p:cNvSpPr/>
          <p:nvPr/>
        </p:nvSpPr>
        <p:spPr>
          <a:xfrm>
            <a:off x="6858000" y="25909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Lucida Sans Unicode"/>
              </a:rPr>
              <a:t>Friction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cxnSp>
        <p:nvCxnSpPr>
          <p:cNvPr id="617" name="Straight Arrow Connector 19"/>
          <p:cNvCxnSpPr/>
          <p:nvPr/>
        </p:nvCxnSpPr>
        <p:spPr>
          <a:xfrm flipV="1">
            <a:off x="5180400" y="1065960"/>
            <a:ext cx="2520" cy="1220040"/>
          </a:xfrm>
          <a:prstGeom prst="straightConnector1">
            <a:avLst/>
          </a:prstGeom>
          <a:ln w="9360">
            <a:solidFill>
              <a:srgbClr val="4f81bd"/>
            </a:solidFill>
            <a:miter/>
            <a:tailEnd len="med" type="arrow" w="med"/>
          </a:ln>
        </p:spPr>
      </p:cxnSp>
    </p:spTree>
  </p:cSld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000"/>
                            </p:stCondLst>
                            <p:childTnLst>
                              <p:par>
                                <p:cTn id="14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4000"/>
                            </p:stCondLst>
                            <p:childTnLst>
                              <p:par>
                                <p:cTn id="15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6000"/>
                            </p:stCondLst>
                            <p:childTnLst>
                              <p:par>
                                <p:cTn id="16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"/>
          <p:cNvSpPr txBox="1"/>
          <p:nvPr/>
        </p:nvSpPr>
        <p:spPr>
          <a:xfrm>
            <a:off x="914040" y="1676520"/>
            <a:ext cx="7684920" cy="171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Davain sits on the outer rim of a merry-go-round, and Diego sits midway between the center and the rim.  The merry-go-round makes one complete revolution every two seconds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Diego’s angular velocity is: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619" name="Rectangle 2" descr=""/>
          <p:cNvPicPr/>
          <p:nvPr/>
        </p:nvPicPr>
        <p:blipFill>
          <a:blip r:embed="rId1"/>
          <a:stretch/>
        </p:blipFill>
        <p:spPr>
          <a:xfrm>
            <a:off x="658800" y="298440"/>
            <a:ext cx="7662960" cy="1158840"/>
          </a:xfrm>
          <a:prstGeom prst="rect">
            <a:avLst/>
          </a:prstGeom>
          <a:ln w="0">
            <a:noFill/>
          </a:ln>
        </p:spPr>
      </p:pic>
      <p:sp>
        <p:nvSpPr>
          <p:cNvPr id="620" name="Rectangle 4"/>
          <p:cNvSpPr/>
          <p:nvPr/>
        </p:nvSpPr>
        <p:spPr>
          <a:xfrm>
            <a:off x="557640" y="3598920"/>
            <a:ext cx="3853440" cy="12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a)</a:t>
            </a:r>
            <a:r>
              <a:rPr b="1" lang="en-US" sz="2000" spc="-1" strike="noStrike">
                <a:solidFill>
                  <a:srgbClr val="1f497d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1f497d"/>
                </a:solidFill>
                <a:latin typeface="Arial"/>
              </a:rPr>
              <a:t>the same as Davian’s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b)</a:t>
            </a:r>
            <a:r>
              <a:rPr b="1" lang="en-US" sz="2000" spc="-1" strike="noStrike">
                <a:solidFill>
                  <a:srgbClr val="1f497d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1f497d"/>
                </a:solidFill>
                <a:latin typeface="Arial"/>
              </a:rPr>
              <a:t>twice Davian’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c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1f497d"/>
                </a:solidFill>
                <a:latin typeface="Arial"/>
              </a:rPr>
              <a:t>half Davian’s </a:t>
            </a:r>
            <a:r>
              <a:rPr b="0" i="1" lang="en-US" sz="2000" spc="-1" strike="noStrike">
                <a:solidFill>
                  <a:srgbClr val="1f497d"/>
                </a:solidFill>
                <a:latin typeface="Arial"/>
              </a:rPr>
              <a:t>    </a:t>
            </a:r>
            <a:r>
              <a:rPr b="1" i="1" lang="en-US" sz="2000" spc="-1" strike="noStrike" baseline="-25000">
                <a:solidFill>
                  <a:srgbClr val="c0504d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1f497d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1" name="Oval 5"/>
          <p:cNvSpPr/>
          <p:nvPr/>
        </p:nvSpPr>
        <p:spPr>
          <a:xfrm>
            <a:off x="4780080" y="3946680"/>
            <a:ext cx="3568680" cy="742680"/>
          </a:xfrm>
          <a:prstGeom prst="ellipse">
            <a:avLst/>
          </a:prstGeom>
          <a:solidFill>
            <a:srgbClr val="037c0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2" name="Oval 6"/>
          <p:cNvSpPr/>
          <p:nvPr/>
        </p:nvSpPr>
        <p:spPr>
          <a:xfrm>
            <a:off x="4780080" y="3838680"/>
            <a:ext cx="3568680" cy="742680"/>
          </a:xfrm>
          <a:prstGeom prst="ellipse">
            <a:avLst/>
          </a:prstGeom>
          <a:solidFill>
            <a:srgbClr val="4f81b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3" name="Rectangle 7"/>
          <p:cNvSpPr/>
          <p:nvPr/>
        </p:nvSpPr>
        <p:spPr>
          <a:xfrm>
            <a:off x="6456240" y="4702320"/>
            <a:ext cx="139680" cy="3632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624" name="Group 8"/>
          <p:cNvGrpSpPr/>
          <p:nvPr/>
        </p:nvGrpSpPr>
        <p:grpSpPr>
          <a:xfrm>
            <a:off x="6907320" y="4210200"/>
            <a:ext cx="1294560" cy="485280"/>
            <a:chOff x="6907320" y="4210200"/>
            <a:chExt cx="1294560" cy="485280"/>
          </a:xfrm>
        </p:grpSpPr>
        <p:sp>
          <p:nvSpPr>
            <p:cNvPr id="625" name="Line 9"/>
            <p:cNvSpPr/>
            <p:nvPr/>
          </p:nvSpPr>
          <p:spPr>
            <a:xfrm flipH="1">
              <a:off x="7592400" y="4263840"/>
              <a:ext cx="609480" cy="431640"/>
            </a:xfrm>
            <a:prstGeom prst="line">
              <a:avLst/>
            </a:prstGeom>
            <a:ln w="25560">
              <a:solidFill>
                <a:srgbClr val="fc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626" name="Line 10"/>
            <p:cNvSpPr/>
            <p:nvPr/>
          </p:nvSpPr>
          <p:spPr>
            <a:xfrm flipH="1">
              <a:off x="6907320" y="4210200"/>
              <a:ext cx="304560" cy="215640"/>
            </a:xfrm>
            <a:prstGeom prst="line">
              <a:avLst/>
            </a:prstGeom>
            <a:ln w="25560">
              <a:solidFill>
                <a:srgbClr val="fc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sp>
        <p:nvSpPr>
          <p:cNvPr id="627" name="Oval 11"/>
          <p:cNvSpPr/>
          <p:nvPr/>
        </p:nvSpPr>
        <p:spPr>
          <a:xfrm>
            <a:off x="8145360" y="4184640"/>
            <a:ext cx="139680" cy="95400"/>
          </a:xfrm>
          <a:prstGeom prst="ellipse">
            <a:avLst/>
          </a:prstGeom>
          <a:solidFill>
            <a:srgbClr val="037c0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8" name="Oval 12"/>
          <p:cNvSpPr/>
          <p:nvPr/>
        </p:nvSpPr>
        <p:spPr>
          <a:xfrm>
            <a:off x="7174080" y="4127400"/>
            <a:ext cx="139680" cy="88920"/>
          </a:xfrm>
          <a:prstGeom prst="ellipse">
            <a:avLst/>
          </a:prstGeom>
          <a:solidFill>
            <a:srgbClr val="037c0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9" name="Rectangle 13"/>
          <p:cNvSpPr/>
          <p:nvPr/>
        </p:nvSpPr>
        <p:spPr>
          <a:xfrm>
            <a:off x="6456240" y="3678120"/>
            <a:ext cx="139680" cy="47160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0" name="Arc 14"/>
          <p:cNvSpPr/>
          <p:nvPr/>
        </p:nvSpPr>
        <p:spPr>
          <a:xfrm>
            <a:off x="7116840" y="3600360"/>
            <a:ext cx="1627200" cy="546120"/>
          </a:xfrm>
          <a:custGeom>
            <a:avLst/>
            <a:gdLst>
              <a:gd name="textAreaLeft" fmla="*/ 0 w 1627200"/>
              <a:gd name="textAreaRight" fmla="*/ 1627560 w 1627200"/>
              <a:gd name="textAreaTop" fmla="*/ 0 h 546120"/>
              <a:gd name="textAreaBottom" fmla="*/ 546120 h 546120"/>
            </a:gdLst>
            <a:ahLst/>
            <a:rect l="textAreaLeft" t="textAreaTop" r="textAreaRight" b="textAreaBottom"/>
            <a:pathLst>
              <a:path fill="none" w="21621" h="21600">
                <a:moveTo>
                  <a:pt x="0" y="0"/>
                </a:moveTo>
                <a:cubicBezTo>
                  <a:pt x="7" y="0"/>
                  <a:pt x="14" y="-1"/>
                  <a:pt x="21" y="0"/>
                </a:cubicBezTo>
                <a:cubicBezTo>
                  <a:pt x="11950" y="0"/>
                  <a:pt x="21621" y="9670"/>
                  <a:pt x="21621" y="21600"/>
                </a:cubicBezTo>
              </a:path>
              <a:path stroke="0" w="21621" h="21600">
                <a:moveTo>
                  <a:pt x="0" y="0"/>
                </a:moveTo>
                <a:cubicBezTo>
                  <a:pt x="7" y="0"/>
                  <a:pt x="14" y="-1"/>
                  <a:pt x="21" y="0"/>
                </a:cubicBezTo>
                <a:cubicBezTo>
                  <a:pt x="11950" y="0"/>
                  <a:pt x="21621" y="9670"/>
                  <a:pt x="21621" y="21600"/>
                </a:cubicBezTo>
                <a:lnTo>
                  <a:pt x="21" y="21600"/>
                </a:lnTo>
                <a:close/>
              </a:path>
            </a:pathLst>
          </a:custGeom>
          <a:noFill/>
          <a:ln cap="rnd" w="12600">
            <a:solidFill>
              <a:srgbClr val="1f497d"/>
            </a:solidFill>
            <a:round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1" name="Line 15"/>
          <p:cNvSpPr/>
          <p:nvPr/>
        </p:nvSpPr>
        <p:spPr>
          <a:xfrm>
            <a:off x="7040520" y="3255840"/>
            <a:ext cx="176400" cy="770040"/>
          </a:xfrm>
          <a:prstGeom prst="line">
            <a:avLst/>
          </a:prstGeom>
          <a:ln w="28440">
            <a:solidFill>
              <a:srgbClr val="eeece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2" name="Text Box 16"/>
          <p:cNvSpPr/>
          <p:nvPr/>
        </p:nvSpPr>
        <p:spPr>
          <a:xfrm>
            <a:off x="6573960" y="2952720"/>
            <a:ext cx="93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Comic Sans MS"/>
              </a:rPr>
              <a:t>Diego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3" name="Line 17"/>
          <p:cNvSpPr/>
          <p:nvPr/>
        </p:nvSpPr>
        <p:spPr>
          <a:xfrm>
            <a:off x="8042400" y="3360600"/>
            <a:ext cx="176040" cy="770040"/>
          </a:xfrm>
          <a:prstGeom prst="line">
            <a:avLst/>
          </a:prstGeom>
          <a:ln w="28440">
            <a:solidFill>
              <a:srgbClr val="eeece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4" name="Text Box 18"/>
          <p:cNvSpPr/>
          <p:nvPr/>
        </p:nvSpPr>
        <p:spPr>
          <a:xfrm>
            <a:off x="7575480" y="3057480"/>
            <a:ext cx="93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Comic Sans MS"/>
              </a:rPr>
              <a:t>Davian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 txBox="1"/>
          <p:nvPr/>
        </p:nvSpPr>
        <p:spPr>
          <a:xfrm>
            <a:off x="838080" y="15238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Uniform Circular Mot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Speed is constant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Direction is changing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Acceleration toward center  a = v</a:t>
            </a:r>
            <a:r>
              <a:rPr b="0" lang="en-US" sz="2300" spc="-1" strike="noStrike" baseline="30000">
                <a:solidFill>
                  <a:srgbClr val="000000"/>
                </a:solidFill>
                <a:latin typeface="Lucida Sans Unicode"/>
              </a:rPr>
              <a:t>2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 / r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Newton’s Second Law  F = ma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636" name="Rectangle 2" descr=""/>
          <p:cNvPicPr/>
          <p:nvPr/>
        </p:nvPicPr>
        <p:blipFill>
          <a:blip r:embed="rId1"/>
          <a:stretch/>
        </p:blipFill>
        <p:spPr>
          <a:xfrm>
            <a:off x="731880" y="128520"/>
            <a:ext cx="7431120" cy="1150920"/>
          </a:xfrm>
          <a:prstGeom prst="rect">
            <a:avLst/>
          </a:prstGeom>
          <a:ln w="0">
            <a:noFill/>
          </a:ln>
        </p:spPr>
      </p:pic>
      <p:sp>
        <p:nvSpPr>
          <p:cNvPr id="637" name="Text Box 4"/>
          <p:cNvSpPr/>
          <p:nvPr/>
        </p:nvSpPr>
        <p:spPr>
          <a:xfrm>
            <a:off x="8723160" y="6583320"/>
            <a:ext cx="420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Rectangle 3"/>
          <p:cNvSpPr/>
          <p:nvPr/>
        </p:nvSpPr>
        <p:spPr>
          <a:xfrm>
            <a:off x="2336040" y="2895480"/>
            <a:ext cx="39571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Lucida Sans Unicode"/>
                <a:hlinkClick r:id="rId1"/>
              </a:rPr>
              <a:t>http://www.physicsclassroom.com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Lucida Sans Unicode"/>
                <a:hlinkClick r:id="rId2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9" name="TextBox 5">
            <a:hlinkClick r:id="rId3"/>
          </p:cNvPr>
          <p:cNvSpPr/>
          <p:nvPr/>
        </p:nvSpPr>
        <p:spPr>
          <a:xfrm>
            <a:off x="4191120" y="990720"/>
            <a:ext cx="27432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0" name="Rectangle 6"/>
          <p:cNvSpPr/>
          <p:nvPr/>
        </p:nvSpPr>
        <p:spPr>
          <a:xfrm>
            <a:off x="5257800" y="1371600"/>
            <a:ext cx="45720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Lucida Sans Unicode"/>
                <a:hlinkClick r:id="rId4"/>
              </a:rPr>
              <a:t>How does this apply to planets?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1" name="Rectangle 7"/>
          <p:cNvSpPr/>
          <p:nvPr/>
        </p:nvSpPr>
        <p:spPr>
          <a:xfrm>
            <a:off x="838080" y="5562720"/>
            <a:ext cx="868680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Lucida Sans Unicode"/>
                <a:hlinkClick r:id="rId5"/>
              </a:rPr>
              <a:t>http://hyperphysics.phy-astr.gsu.edu/hbase/hframe.html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2" name="TextBox 8"/>
          <p:cNvSpPr/>
          <p:nvPr/>
        </p:nvSpPr>
        <p:spPr>
          <a:xfrm>
            <a:off x="0" y="2286000"/>
            <a:ext cx="4800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Lucida Sans Unicode"/>
              </a:rPr>
              <a:t>Check out this tutorial!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3" name="TextBox 9"/>
          <p:cNvSpPr/>
          <p:nvPr/>
        </p:nvSpPr>
        <p:spPr>
          <a:xfrm>
            <a:off x="1676520" y="685800"/>
            <a:ext cx="548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Lucida Sans Unicode"/>
              </a:rPr>
              <a:t>Click on this question to investigate!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4" name="TextBox 10"/>
          <p:cNvSpPr/>
          <p:nvPr/>
        </p:nvSpPr>
        <p:spPr>
          <a:xfrm>
            <a:off x="2057400" y="3809880"/>
            <a:ext cx="4648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Lucida Sans Unicode"/>
              </a:rPr>
              <a:t>Are you </a:t>
            </a:r>
            <a:r>
              <a:rPr b="1" i="1" lang="en-US" sz="3600" spc="-1" strike="noStrike">
                <a:solidFill>
                  <a:srgbClr val="000000"/>
                </a:solidFill>
                <a:latin typeface="Lucida Sans Unicode"/>
              </a:rPr>
              <a:t>HYPER</a:t>
            </a:r>
            <a:r>
              <a:rPr b="1" lang="en-US" sz="3600" spc="-1" strike="noStrike">
                <a:solidFill>
                  <a:srgbClr val="000000"/>
                </a:solidFill>
                <a:latin typeface="Lucida Sans Unicode"/>
              </a:rPr>
              <a:t> enough to learn and link?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Rectangle 1"/>
          <p:cNvSpPr/>
          <p:nvPr/>
        </p:nvSpPr>
        <p:spPr>
          <a:xfrm>
            <a:off x="1295280" y="3886200"/>
            <a:ext cx="66294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Lucida Sans Unicode"/>
                <a:hlinkClick r:id="rId1"/>
              </a:rPr>
              <a:t>http://www.animations.physics.unsw.edu.au/mechanics/chapter3_circularmotion.html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6" name="TextBox 2"/>
          <p:cNvSpPr/>
          <p:nvPr/>
        </p:nvSpPr>
        <p:spPr>
          <a:xfrm>
            <a:off x="1371600" y="2971800"/>
            <a:ext cx="647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 Unicode"/>
              </a:rPr>
              <a:t>Check out this site for simulations of circular motion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 Unicode"/>
              </a:rPr>
              <a:t>And so many other simulations!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TextBox 1"/>
          <p:cNvSpPr/>
          <p:nvPr/>
        </p:nvSpPr>
        <p:spPr>
          <a:xfrm>
            <a:off x="0" y="0"/>
            <a:ext cx="556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Lucida Sans Unicode"/>
              </a:rPr>
              <a:t>Citations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8" name="TextBox 2"/>
          <p:cNvSpPr/>
          <p:nvPr/>
        </p:nvSpPr>
        <p:spPr>
          <a:xfrm>
            <a:off x="0" y="990720"/>
            <a:ext cx="8991720" cy="54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Sans Unicode"/>
              </a:rPr>
              <a:t>Graphics</a:t>
            </a:r>
            <a:r>
              <a:rPr b="0" lang="en-US" sz="1200" spc="-1" strike="noStrike">
                <a:solidFill>
                  <a:srgbClr val="000000"/>
                </a:solidFill>
                <a:latin typeface="Lucida Sans Unicode"/>
              </a:rPr>
              <a:t>: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Sans Unicode"/>
              </a:rPr>
              <a:t>Slides 9, 10, 11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Sans Unicode"/>
              </a:rPr>
              <a:t>Physics Text 1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Sans Unicode"/>
              </a:rPr>
              <a:t>Chapter 3 Vectors and Two-Dimensional Motion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Sans Unicode"/>
              </a:rPr>
              <a:t>Slides 12, 13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Sans Unicode"/>
              </a:rPr>
              <a:t>Physics Text 2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Sans Unicode"/>
              </a:rPr>
              <a:t>Video: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Sans Unicode"/>
              </a:rPr>
              <a:t>Planetary Orbits are Elliptical. Discovery Channel School. 2005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Lucida Sans Unicode"/>
              </a:rPr>
              <a:t>Discovery Education. 17 July 2009</a:t>
            </a:r>
            <a:br>
              <a:rPr sz="1200"/>
            </a:br>
            <a:r>
              <a:rPr b="0" lang="en-US" sz="1200" spc="-1" strike="noStrike" u="sng">
                <a:solidFill>
                  <a:srgbClr val="0000ff"/>
                </a:solidFill>
                <a:uFillTx/>
                <a:latin typeface="Lucida Sans Unicode"/>
                <a:hlinkClick r:id="rId1"/>
              </a:rPr>
              <a:t>http://streaming.discoveryeducation.com/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Sans Unicode"/>
              </a:rPr>
              <a:t>Websites: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Sans Unicode"/>
              </a:rPr>
              <a:t>http://hyperphysics.phy-astr.gsu.edu/hbase/orbv.html#co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Sans Unicode"/>
              </a:rPr>
              <a:t>http://www.physicsclassroom.com/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Sans Unicode"/>
              </a:rPr>
              <a:t>http://hyperphysics.phy-astr.gsu.edu/hbase/hframe.html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Sans Unicode"/>
              </a:rPr>
              <a:t>http://www.animations.physics.unsw.edu.au/mechanics/chapter3_circularmotion.html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3" name="Planetary_Orbits_are_Elliptical.asf" descr=""/>
          <p:cNvPicPr/>
          <p:nvPr/>
        </p:nvPicPr>
        <p:blipFill>
          <a:blip r:embed="rId1"/>
          <a:stretch/>
        </p:blipFill>
        <p:spPr>
          <a:xfrm>
            <a:off x="1143000" y="1066680"/>
            <a:ext cx="6299280" cy="4724640"/>
          </a:xfrm>
          <a:prstGeom prst="rect">
            <a:avLst/>
          </a:prstGeom>
          <a:ln w="0">
            <a:noFill/>
          </a:ln>
        </p:spPr>
      </p:pic>
      <p:sp>
        <p:nvSpPr>
          <p:cNvPr id="474" name="TextBox 2"/>
          <p:cNvSpPr/>
          <p:nvPr/>
        </p:nvSpPr>
        <p:spPr>
          <a:xfrm>
            <a:off x="1093680" y="609480"/>
            <a:ext cx="641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Lucida Sans Unicode"/>
              </a:rPr>
              <a:t>Click anywhere in the </a:t>
            </a:r>
            <a:r>
              <a:rPr b="1" lang="en-US" sz="1800" spc="-1" strike="noStrike">
                <a:solidFill>
                  <a:srgbClr val="000000"/>
                </a:solidFill>
                <a:latin typeface="Lucida Sans Unicode"/>
              </a:rPr>
              <a:t>black area </a:t>
            </a:r>
            <a:r>
              <a:rPr b="1" lang="en-US" sz="1800" spc="-1" strike="noStrike">
                <a:solidFill>
                  <a:srgbClr val="ff0000"/>
                </a:solidFill>
                <a:latin typeface="Lucida Sans Unicode"/>
              </a:rPr>
              <a:t>below to see a movie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73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73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4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Line 2"/>
          <p:cNvSpPr/>
          <p:nvPr/>
        </p:nvSpPr>
        <p:spPr>
          <a:xfrm>
            <a:off x="4200480" y="3467160"/>
            <a:ext cx="25243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6" name="Oval 3"/>
          <p:cNvSpPr/>
          <p:nvPr/>
        </p:nvSpPr>
        <p:spPr>
          <a:xfrm>
            <a:off x="6572160" y="3333600"/>
            <a:ext cx="266760" cy="27648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7" name="Line 4"/>
          <p:cNvSpPr/>
          <p:nvPr/>
        </p:nvSpPr>
        <p:spPr>
          <a:xfrm flipH="1" flipV="1">
            <a:off x="6695640" y="1886040"/>
            <a:ext cx="9720" cy="1495440"/>
          </a:xfrm>
          <a:prstGeom prst="line">
            <a:avLst/>
          </a:prstGeom>
          <a:ln w="28440">
            <a:solidFill>
              <a:srgbClr val="c0504d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8" name="Text Box 5"/>
          <p:cNvSpPr/>
          <p:nvPr/>
        </p:nvSpPr>
        <p:spPr>
          <a:xfrm>
            <a:off x="5787360" y="2127240"/>
            <a:ext cx="89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eece1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9" name="Text Box 6"/>
          <p:cNvSpPr/>
          <p:nvPr/>
        </p:nvSpPr>
        <p:spPr>
          <a:xfrm>
            <a:off x="6250680" y="1584360"/>
            <a:ext cx="90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eece1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0" name="Text Box 7"/>
          <p:cNvSpPr/>
          <p:nvPr/>
        </p:nvSpPr>
        <p:spPr>
          <a:xfrm>
            <a:off x="6697800" y="2013120"/>
            <a:ext cx="8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eece1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1" name="Arc 8"/>
          <p:cNvSpPr/>
          <p:nvPr/>
        </p:nvSpPr>
        <p:spPr>
          <a:xfrm>
            <a:off x="6000840" y="2232000"/>
            <a:ext cx="689040" cy="1666800"/>
          </a:xfrm>
          <a:custGeom>
            <a:avLst/>
            <a:gdLst>
              <a:gd name="textAreaLeft" fmla="*/ 0 w 689040"/>
              <a:gd name="textAreaRight" fmla="*/ 689400 w 689040"/>
              <a:gd name="textAreaTop" fmla="*/ 0 h 1666800"/>
              <a:gd name="textAreaBottom" fmla="*/ 1667160 h 1666800"/>
            </a:gdLst>
            <a:ahLst/>
            <a:rect l="textAreaLeft" t="textAreaTop" r="textAreaRight" b="textAreaBottom"/>
            <a:pathLst>
              <a:path fill="none" w="20956" h="18124">
                <a:moveTo>
                  <a:pt x="11750" y="0"/>
                </a:moveTo>
                <a:cubicBezTo>
                  <a:pt x="16341" y="2976"/>
                  <a:pt x="19631" y="7583"/>
                  <a:pt x="20956" y="12890"/>
                </a:cubicBezTo>
              </a:path>
              <a:path stroke="0" w="20956" h="18124">
                <a:moveTo>
                  <a:pt x="11750" y="0"/>
                </a:moveTo>
                <a:cubicBezTo>
                  <a:pt x="16341" y="2976"/>
                  <a:pt x="19631" y="7583"/>
                  <a:pt x="20956" y="12890"/>
                </a:cubicBezTo>
                <a:lnTo>
                  <a:pt x="0" y="18124"/>
                </a:lnTo>
                <a:close/>
              </a:path>
            </a:pathLst>
          </a:custGeom>
          <a:noFill/>
          <a:ln w="28440">
            <a:solidFill>
              <a:srgbClr val="c0504d"/>
            </a:solidFill>
            <a:round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2" name="Oval 9"/>
          <p:cNvSpPr/>
          <p:nvPr/>
        </p:nvSpPr>
        <p:spPr>
          <a:xfrm>
            <a:off x="1714680" y="1000080"/>
            <a:ext cx="4971960" cy="4971960"/>
          </a:xfrm>
          <a:prstGeom prst="ellipse">
            <a:avLst/>
          </a:prstGeom>
          <a:noFill/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3" name="Arc 10"/>
          <p:cNvSpPr/>
          <p:nvPr/>
        </p:nvSpPr>
        <p:spPr>
          <a:xfrm flipH="1">
            <a:off x="6715080" y="2241720"/>
            <a:ext cx="689040" cy="1666800"/>
          </a:xfrm>
          <a:custGeom>
            <a:avLst/>
            <a:gdLst>
              <a:gd name="textAreaLeft" fmla="*/ 360 w 689040"/>
              <a:gd name="textAreaRight" fmla="*/ 689760 w 689040"/>
              <a:gd name="textAreaTop" fmla="*/ 0 h 1666800"/>
              <a:gd name="textAreaBottom" fmla="*/ 1667160 h 1666800"/>
            </a:gdLst>
            <a:ahLst/>
            <a:rect l="textAreaLeft" t="textAreaTop" r="textAreaRight" b="textAreaBottom"/>
            <a:pathLst>
              <a:path fill="none" w="20956" h="18124">
                <a:moveTo>
                  <a:pt x="11750" y="0"/>
                </a:moveTo>
                <a:cubicBezTo>
                  <a:pt x="16341" y="2976"/>
                  <a:pt x="19631" y="7583"/>
                  <a:pt x="20956" y="12890"/>
                </a:cubicBezTo>
              </a:path>
              <a:path stroke="0" w="20956" h="18124">
                <a:moveTo>
                  <a:pt x="11750" y="0"/>
                </a:moveTo>
                <a:cubicBezTo>
                  <a:pt x="16341" y="2976"/>
                  <a:pt x="19631" y="7583"/>
                  <a:pt x="20956" y="12890"/>
                </a:cubicBezTo>
                <a:lnTo>
                  <a:pt x="0" y="18124"/>
                </a:lnTo>
                <a:close/>
              </a:path>
            </a:pathLst>
          </a:custGeom>
          <a:noFill/>
          <a:ln w="28440">
            <a:solidFill>
              <a:srgbClr val="c0504d"/>
            </a:solidFill>
            <a:round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84" name="Rectangle 11" descr=""/>
          <p:cNvPicPr/>
          <p:nvPr/>
        </p:nvPicPr>
        <p:blipFill>
          <a:blip r:embed="rId1"/>
          <a:stretch/>
        </p:blipFill>
        <p:spPr>
          <a:xfrm>
            <a:off x="396720" y="-189000"/>
            <a:ext cx="7620120" cy="1341360"/>
          </a:xfrm>
          <a:prstGeom prst="rect">
            <a:avLst/>
          </a:prstGeom>
          <a:ln w="0">
            <a:noFill/>
          </a:ln>
        </p:spPr>
      </p:pic>
      <p:sp>
        <p:nvSpPr>
          <p:cNvPr id="485" name="Text Box 12"/>
          <p:cNvSpPr/>
          <p:nvPr/>
        </p:nvSpPr>
        <p:spPr>
          <a:xfrm>
            <a:off x="1224000" y="5670720"/>
            <a:ext cx="7245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ce1"/>
                </a:solidFill>
                <a:latin typeface="Comic Sans MS"/>
              </a:rPr>
              <a:t>A ball is going around in a circle attached to a string. If the string breaks at the instant shown, which path will the ball follow?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6" name="Text Box 13"/>
          <p:cNvSpPr/>
          <p:nvPr/>
        </p:nvSpPr>
        <p:spPr>
          <a:xfrm>
            <a:off x="8723160" y="6583320"/>
            <a:ext cx="420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eece1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Oval 3"/>
          <p:cNvSpPr/>
          <p:nvPr/>
        </p:nvSpPr>
        <p:spPr>
          <a:xfrm>
            <a:off x="6572160" y="3333600"/>
            <a:ext cx="266760" cy="27648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8" name="Line 4"/>
          <p:cNvSpPr/>
          <p:nvPr/>
        </p:nvSpPr>
        <p:spPr>
          <a:xfrm flipH="1" flipV="1">
            <a:off x="6695640" y="1886040"/>
            <a:ext cx="9720" cy="1495440"/>
          </a:xfrm>
          <a:prstGeom prst="line">
            <a:avLst/>
          </a:prstGeom>
          <a:ln w="28440">
            <a:solidFill>
              <a:srgbClr val="c0504d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9" name="Text Box 5"/>
          <p:cNvSpPr/>
          <p:nvPr/>
        </p:nvSpPr>
        <p:spPr>
          <a:xfrm>
            <a:off x="5787360" y="2127240"/>
            <a:ext cx="89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eece1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0" name="Text Box 6"/>
          <p:cNvSpPr/>
          <p:nvPr/>
        </p:nvSpPr>
        <p:spPr>
          <a:xfrm>
            <a:off x="6250680" y="1584360"/>
            <a:ext cx="90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eece1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1" name="Text Box 7"/>
          <p:cNvSpPr/>
          <p:nvPr/>
        </p:nvSpPr>
        <p:spPr>
          <a:xfrm>
            <a:off x="6697800" y="2013120"/>
            <a:ext cx="8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eece1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2" name="Arc 8"/>
          <p:cNvSpPr/>
          <p:nvPr/>
        </p:nvSpPr>
        <p:spPr>
          <a:xfrm>
            <a:off x="6000840" y="2232000"/>
            <a:ext cx="689040" cy="1666800"/>
          </a:xfrm>
          <a:custGeom>
            <a:avLst/>
            <a:gdLst>
              <a:gd name="textAreaLeft" fmla="*/ 0 w 689040"/>
              <a:gd name="textAreaRight" fmla="*/ 689400 w 689040"/>
              <a:gd name="textAreaTop" fmla="*/ 0 h 1666800"/>
              <a:gd name="textAreaBottom" fmla="*/ 1667160 h 1666800"/>
            </a:gdLst>
            <a:ahLst/>
            <a:rect l="textAreaLeft" t="textAreaTop" r="textAreaRight" b="textAreaBottom"/>
            <a:pathLst>
              <a:path fill="none" w="20956" h="18124">
                <a:moveTo>
                  <a:pt x="11750" y="0"/>
                </a:moveTo>
                <a:cubicBezTo>
                  <a:pt x="16341" y="2976"/>
                  <a:pt x="19631" y="7583"/>
                  <a:pt x="20956" y="12890"/>
                </a:cubicBezTo>
              </a:path>
              <a:path stroke="0" w="20956" h="18124">
                <a:moveTo>
                  <a:pt x="11750" y="0"/>
                </a:moveTo>
                <a:cubicBezTo>
                  <a:pt x="16341" y="2976"/>
                  <a:pt x="19631" y="7583"/>
                  <a:pt x="20956" y="12890"/>
                </a:cubicBezTo>
                <a:lnTo>
                  <a:pt x="0" y="18124"/>
                </a:lnTo>
                <a:close/>
              </a:path>
            </a:pathLst>
          </a:custGeom>
          <a:noFill/>
          <a:ln w="28440">
            <a:solidFill>
              <a:srgbClr val="c0504d"/>
            </a:solidFill>
            <a:round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3" name="Oval 9"/>
          <p:cNvSpPr/>
          <p:nvPr/>
        </p:nvSpPr>
        <p:spPr>
          <a:xfrm>
            <a:off x="1714680" y="1000080"/>
            <a:ext cx="4971960" cy="4971960"/>
          </a:xfrm>
          <a:prstGeom prst="ellipse">
            <a:avLst/>
          </a:prstGeom>
          <a:noFill/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4" name="Arc 10"/>
          <p:cNvSpPr/>
          <p:nvPr/>
        </p:nvSpPr>
        <p:spPr>
          <a:xfrm flipH="1">
            <a:off x="6715080" y="2241720"/>
            <a:ext cx="689040" cy="1666800"/>
          </a:xfrm>
          <a:custGeom>
            <a:avLst/>
            <a:gdLst>
              <a:gd name="textAreaLeft" fmla="*/ 360 w 689040"/>
              <a:gd name="textAreaRight" fmla="*/ 689760 w 689040"/>
              <a:gd name="textAreaTop" fmla="*/ 0 h 1666800"/>
              <a:gd name="textAreaBottom" fmla="*/ 1667160 h 1666800"/>
            </a:gdLst>
            <a:ahLst/>
            <a:rect l="textAreaLeft" t="textAreaTop" r="textAreaRight" b="textAreaBottom"/>
            <a:pathLst>
              <a:path fill="none" w="20956" h="18124">
                <a:moveTo>
                  <a:pt x="11750" y="0"/>
                </a:moveTo>
                <a:cubicBezTo>
                  <a:pt x="16341" y="2976"/>
                  <a:pt x="19631" y="7583"/>
                  <a:pt x="20956" y="12890"/>
                </a:cubicBezTo>
              </a:path>
              <a:path stroke="0" w="20956" h="18124">
                <a:moveTo>
                  <a:pt x="11750" y="0"/>
                </a:moveTo>
                <a:cubicBezTo>
                  <a:pt x="16341" y="2976"/>
                  <a:pt x="19631" y="7583"/>
                  <a:pt x="20956" y="12890"/>
                </a:cubicBezTo>
                <a:lnTo>
                  <a:pt x="0" y="18124"/>
                </a:lnTo>
                <a:close/>
              </a:path>
            </a:pathLst>
          </a:custGeom>
          <a:noFill/>
          <a:ln w="28440">
            <a:solidFill>
              <a:srgbClr val="c0504d"/>
            </a:solidFill>
            <a:round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95" name="Rectangle 11" descr=""/>
          <p:cNvPicPr/>
          <p:nvPr/>
        </p:nvPicPr>
        <p:blipFill>
          <a:blip r:embed="rId1"/>
          <a:stretch/>
        </p:blipFill>
        <p:spPr>
          <a:xfrm>
            <a:off x="396720" y="-189000"/>
            <a:ext cx="7620120" cy="1341360"/>
          </a:xfrm>
          <a:prstGeom prst="rect">
            <a:avLst/>
          </a:prstGeom>
          <a:ln w="0">
            <a:noFill/>
          </a:ln>
        </p:spPr>
      </p:pic>
      <p:sp>
        <p:nvSpPr>
          <p:cNvPr id="496" name="Text Box 12"/>
          <p:cNvSpPr/>
          <p:nvPr/>
        </p:nvSpPr>
        <p:spPr>
          <a:xfrm>
            <a:off x="152280" y="426708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ce1"/>
                </a:solidFill>
                <a:latin typeface="Comic Sans MS"/>
              </a:rPr>
              <a:t>A planet is going in a circular orbit around a star. If the star was to suddenly disappear at the instant shown, which path will the planet follow?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7" name="Text Box 13"/>
          <p:cNvSpPr/>
          <p:nvPr/>
        </p:nvSpPr>
        <p:spPr>
          <a:xfrm>
            <a:off x="8723160" y="6583320"/>
            <a:ext cx="420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eece1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8" name="Explosion 2 13"/>
          <p:cNvSpPr/>
          <p:nvPr/>
        </p:nvSpPr>
        <p:spPr>
          <a:xfrm>
            <a:off x="3809880" y="2895480"/>
            <a:ext cx="914400" cy="914400"/>
          </a:xfrm>
          <a:prstGeom prst="irregularSeal2">
            <a:avLst/>
          </a:prstGeom>
          <a:solidFill>
            <a:srgbClr val="4f81bd"/>
          </a:solidFill>
          <a:ln w="55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Line 2"/>
          <p:cNvSpPr/>
          <p:nvPr/>
        </p:nvSpPr>
        <p:spPr>
          <a:xfrm>
            <a:off x="4200480" y="3467160"/>
            <a:ext cx="25243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0" name="Oval 3"/>
          <p:cNvSpPr/>
          <p:nvPr/>
        </p:nvSpPr>
        <p:spPr>
          <a:xfrm>
            <a:off x="6572160" y="3333600"/>
            <a:ext cx="266760" cy="27648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1" name="Line 4"/>
          <p:cNvSpPr/>
          <p:nvPr/>
        </p:nvSpPr>
        <p:spPr>
          <a:xfrm flipH="1" flipV="1">
            <a:off x="6695640" y="1886040"/>
            <a:ext cx="9720" cy="1495440"/>
          </a:xfrm>
          <a:prstGeom prst="line">
            <a:avLst/>
          </a:prstGeom>
          <a:ln w="28440">
            <a:solidFill>
              <a:srgbClr val="c0504d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2" name="Text Box 5"/>
          <p:cNvSpPr/>
          <p:nvPr/>
        </p:nvSpPr>
        <p:spPr>
          <a:xfrm>
            <a:off x="5787360" y="2127240"/>
            <a:ext cx="89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eece1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3" name="Text Box 6"/>
          <p:cNvSpPr/>
          <p:nvPr/>
        </p:nvSpPr>
        <p:spPr>
          <a:xfrm>
            <a:off x="6250680" y="1584360"/>
            <a:ext cx="90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eece1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4" name="Text Box 7"/>
          <p:cNvSpPr/>
          <p:nvPr/>
        </p:nvSpPr>
        <p:spPr>
          <a:xfrm>
            <a:off x="6697800" y="2013120"/>
            <a:ext cx="8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eece1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5" name="Arc 8"/>
          <p:cNvSpPr/>
          <p:nvPr/>
        </p:nvSpPr>
        <p:spPr>
          <a:xfrm>
            <a:off x="6000840" y="2232000"/>
            <a:ext cx="689040" cy="1666800"/>
          </a:xfrm>
          <a:custGeom>
            <a:avLst/>
            <a:gdLst>
              <a:gd name="textAreaLeft" fmla="*/ 0 w 689040"/>
              <a:gd name="textAreaRight" fmla="*/ 689400 w 689040"/>
              <a:gd name="textAreaTop" fmla="*/ 0 h 1666800"/>
              <a:gd name="textAreaBottom" fmla="*/ 1667160 h 1666800"/>
            </a:gdLst>
            <a:ahLst/>
            <a:rect l="textAreaLeft" t="textAreaTop" r="textAreaRight" b="textAreaBottom"/>
            <a:pathLst>
              <a:path fill="none" w="20956" h="18124">
                <a:moveTo>
                  <a:pt x="11750" y="0"/>
                </a:moveTo>
                <a:cubicBezTo>
                  <a:pt x="16341" y="2976"/>
                  <a:pt x="19631" y="7583"/>
                  <a:pt x="20956" y="12890"/>
                </a:cubicBezTo>
              </a:path>
              <a:path stroke="0" w="20956" h="18124">
                <a:moveTo>
                  <a:pt x="11750" y="0"/>
                </a:moveTo>
                <a:cubicBezTo>
                  <a:pt x="16341" y="2976"/>
                  <a:pt x="19631" y="7583"/>
                  <a:pt x="20956" y="12890"/>
                </a:cubicBezTo>
                <a:lnTo>
                  <a:pt x="0" y="18124"/>
                </a:lnTo>
                <a:close/>
              </a:path>
            </a:pathLst>
          </a:custGeom>
          <a:noFill/>
          <a:ln w="28440">
            <a:solidFill>
              <a:srgbClr val="c0504d"/>
            </a:solidFill>
            <a:round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6" name="Oval 9"/>
          <p:cNvSpPr/>
          <p:nvPr/>
        </p:nvSpPr>
        <p:spPr>
          <a:xfrm>
            <a:off x="1714680" y="1000080"/>
            <a:ext cx="4971960" cy="4971960"/>
          </a:xfrm>
          <a:prstGeom prst="ellipse">
            <a:avLst/>
          </a:prstGeom>
          <a:noFill/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7" name="Arc 10"/>
          <p:cNvSpPr/>
          <p:nvPr/>
        </p:nvSpPr>
        <p:spPr>
          <a:xfrm flipH="1">
            <a:off x="6715080" y="2241720"/>
            <a:ext cx="689040" cy="1666800"/>
          </a:xfrm>
          <a:custGeom>
            <a:avLst/>
            <a:gdLst>
              <a:gd name="textAreaLeft" fmla="*/ 360 w 689040"/>
              <a:gd name="textAreaRight" fmla="*/ 689760 w 689040"/>
              <a:gd name="textAreaTop" fmla="*/ 0 h 1666800"/>
              <a:gd name="textAreaBottom" fmla="*/ 1667160 h 1666800"/>
            </a:gdLst>
            <a:ahLst/>
            <a:rect l="textAreaLeft" t="textAreaTop" r="textAreaRight" b="textAreaBottom"/>
            <a:pathLst>
              <a:path fill="none" w="20956" h="18124">
                <a:moveTo>
                  <a:pt x="11750" y="0"/>
                </a:moveTo>
                <a:cubicBezTo>
                  <a:pt x="16341" y="2976"/>
                  <a:pt x="19631" y="7583"/>
                  <a:pt x="20956" y="12890"/>
                </a:cubicBezTo>
              </a:path>
              <a:path stroke="0" w="20956" h="18124">
                <a:moveTo>
                  <a:pt x="11750" y="0"/>
                </a:moveTo>
                <a:cubicBezTo>
                  <a:pt x="16341" y="2976"/>
                  <a:pt x="19631" y="7583"/>
                  <a:pt x="20956" y="12890"/>
                </a:cubicBezTo>
                <a:lnTo>
                  <a:pt x="0" y="18124"/>
                </a:lnTo>
                <a:close/>
              </a:path>
            </a:pathLst>
          </a:custGeom>
          <a:noFill/>
          <a:ln w="28440">
            <a:solidFill>
              <a:srgbClr val="c0504d"/>
            </a:solidFill>
            <a:round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08" name="Rectangle 11" descr=""/>
          <p:cNvPicPr/>
          <p:nvPr/>
        </p:nvPicPr>
        <p:blipFill>
          <a:blip r:embed="rId1"/>
          <a:stretch/>
        </p:blipFill>
        <p:spPr>
          <a:xfrm>
            <a:off x="396720" y="-189000"/>
            <a:ext cx="7620120" cy="1341360"/>
          </a:xfrm>
          <a:prstGeom prst="rect">
            <a:avLst/>
          </a:prstGeom>
          <a:ln w="0">
            <a:noFill/>
          </a:ln>
        </p:spPr>
      </p:pic>
      <p:sp>
        <p:nvSpPr>
          <p:cNvPr id="509" name="Text Box 12"/>
          <p:cNvSpPr/>
          <p:nvPr/>
        </p:nvSpPr>
        <p:spPr>
          <a:xfrm>
            <a:off x="990720" y="4038480"/>
            <a:ext cx="7245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ce1"/>
                </a:solidFill>
                <a:latin typeface="Comic Sans MS"/>
              </a:rPr>
              <a:t>A ball is going around in a horizontal circle on a frictionless table attached to a string. If the string breaks at the instant shown, which path will the ball follow?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0" name="Text Box 13"/>
          <p:cNvSpPr/>
          <p:nvPr/>
        </p:nvSpPr>
        <p:spPr>
          <a:xfrm>
            <a:off x="8723160" y="6583320"/>
            <a:ext cx="420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eece1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Line 2"/>
          <p:cNvSpPr/>
          <p:nvPr/>
        </p:nvSpPr>
        <p:spPr>
          <a:xfrm>
            <a:off x="3657600" y="1905120"/>
            <a:ext cx="0" cy="1676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2" name="AutoShape 3"/>
          <p:cNvSpPr/>
          <p:nvPr/>
        </p:nvSpPr>
        <p:spPr>
          <a:xfrm>
            <a:off x="343080" y="1195560"/>
            <a:ext cx="6629400" cy="1623960"/>
          </a:xfrm>
          <a:prstGeom prst="parallelogram">
            <a:avLst>
              <a:gd name="adj" fmla="val 102056"/>
            </a:avLst>
          </a:prstGeom>
          <a:solidFill>
            <a:srgbClr val="4f81b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3" name="Rectangle 4"/>
          <p:cNvSpPr/>
          <p:nvPr/>
        </p:nvSpPr>
        <p:spPr>
          <a:xfrm>
            <a:off x="343080" y="168120"/>
            <a:ext cx="342720" cy="397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4" name="Text Box 5"/>
          <p:cNvSpPr/>
          <p:nvPr/>
        </p:nvSpPr>
        <p:spPr>
          <a:xfrm>
            <a:off x="5256360" y="76320"/>
            <a:ext cx="310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  <a:ea typeface="新細明體"/>
              </a:rPr>
              <a:t>Uniform Circular motion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5" name="Oval 6"/>
          <p:cNvSpPr/>
          <p:nvPr/>
        </p:nvSpPr>
        <p:spPr>
          <a:xfrm>
            <a:off x="1752480" y="1371600"/>
            <a:ext cx="3810240" cy="114300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6" name="Text Box 7"/>
          <p:cNvSpPr/>
          <p:nvPr/>
        </p:nvSpPr>
        <p:spPr>
          <a:xfrm>
            <a:off x="835920" y="565200"/>
            <a:ext cx="467208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imes New Roman"/>
                <a:ea typeface="新細明體"/>
              </a:rPr>
              <a:t>Uniform circular motion in a horizontal plane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7" name="Line 8"/>
          <p:cNvSpPr/>
          <p:nvPr/>
        </p:nvSpPr>
        <p:spPr>
          <a:xfrm>
            <a:off x="3657600" y="1905120"/>
            <a:ext cx="152388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8" name="Oval 9"/>
          <p:cNvSpPr/>
          <p:nvPr/>
        </p:nvSpPr>
        <p:spPr>
          <a:xfrm>
            <a:off x="5067360" y="2171880"/>
            <a:ext cx="228600" cy="228600"/>
          </a:xfrm>
          <a:prstGeom prst="ellipse">
            <a:avLst/>
          </a:prstGeom>
          <a:solidFill>
            <a:srgbClr val="1f497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9" name="Rectangle 10"/>
          <p:cNvSpPr/>
          <p:nvPr/>
        </p:nvSpPr>
        <p:spPr>
          <a:xfrm>
            <a:off x="3475080" y="3429000"/>
            <a:ext cx="365040" cy="304920"/>
          </a:xfrm>
          <a:prstGeom prst="rect">
            <a:avLst/>
          </a:prstGeom>
          <a:solidFill>
            <a:srgbClr val="1f497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520" name="Group 11"/>
          <p:cNvGrpSpPr/>
          <p:nvPr/>
        </p:nvGrpSpPr>
        <p:grpSpPr>
          <a:xfrm>
            <a:off x="5295960" y="1432080"/>
            <a:ext cx="912240" cy="739440"/>
            <a:chOff x="5295960" y="1432080"/>
            <a:chExt cx="912240" cy="739440"/>
          </a:xfrm>
        </p:grpSpPr>
        <p:sp>
          <p:nvSpPr>
            <p:cNvPr id="521" name="Line 12"/>
            <p:cNvSpPr/>
            <p:nvPr/>
          </p:nvSpPr>
          <p:spPr>
            <a:xfrm flipV="1">
              <a:off x="5295960" y="1904760"/>
              <a:ext cx="57132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522" name="Text Box 13"/>
            <p:cNvSpPr/>
            <p:nvPr/>
          </p:nvSpPr>
          <p:spPr>
            <a:xfrm>
              <a:off x="5869080" y="1432080"/>
              <a:ext cx="33912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  <a:ea typeface="新細明體"/>
                </a:rPr>
                <a:t>v</a:t>
              </a:r>
              <a:endParaRPr b="0" lang="en-US" sz="25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grpSp>
        <p:nvGrpSpPr>
          <p:cNvPr id="523" name="Group 14"/>
          <p:cNvGrpSpPr/>
          <p:nvPr/>
        </p:nvGrpSpPr>
        <p:grpSpPr>
          <a:xfrm>
            <a:off x="5181480" y="2400480"/>
            <a:ext cx="673920" cy="1182600"/>
            <a:chOff x="5181480" y="2400480"/>
            <a:chExt cx="673920" cy="1182600"/>
          </a:xfrm>
        </p:grpSpPr>
        <p:sp>
          <p:nvSpPr>
            <p:cNvPr id="524" name="Line 15"/>
            <p:cNvSpPr/>
            <p:nvPr/>
          </p:nvSpPr>
          <p:spPr>
            <a:xfrm>
              <a:off x="5181480" y="2400480"/>
              <a:ext cx="0" cy="876240"/>
            </a:xfrm>
            <a:prstGeom prst="line">
              <a:avLst/>
            </a:prstGeom>
            <a:ln w="28440">
              <a:solidFill>
                <a:srgbClr val="c0504d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525" name="Text Box 16"/>
            <p:cNvSpPr/>
            <p:nvPr/>
          </p:nvSpPr>
          <p:spPr>
            <a:xfrm>
              <a:off x="5269320" y="3108240"/>
              <a:ext cx="58608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0000"/>
                  </a:solidFill>
                  <a:latin typeface="Times New Roman"/>
                  <a:ea typeface="新細明體"/>
                </a:rPr>
                <a:t>mg</a:t>
              </a:r>
              <a:endParaRPr b="0" lang="en-US" sz="25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grpSp>
        <p:nvGrpSpPr>
          <p:cNvPr id="526" name="Group 17"/>
          <p:cNvGrpSpPr/>
          <p:nvPr/>
        </p:nvGrpSpPr>
        <p:grpSpPr>
          <a:xfrm>
            <a:off x="5181480" y="958680"/>
            <a:ext cx="496800" cy="1327320"/>
            <a:chOff x="5181480" y="958680"/>
            <a:chExt cx="496800" cy="1327320"/>
          </a:xfrm>
        </p:grpSpPr>
        <p:sp>
          <p:nvSpPr>
            <p:cNvPr id="527" name="Line 18"/>
            <p:cNvSpPr/>
            <p:nvPr/>
          </p:nvSpPr>
          <p:spPr>
            <a:xfrm flipV="1">
              <a:off x="5181480" y="1371600"/>
              <a:ext cx="0" cy="914400"/>
            </a:xfrm>
            <a:prstGeom prst="line">
              <a:avLst/>
            </a:prstGeom>
            <a:ln w="28440">
              <a:solidFill>
                <a:srgbClr val="c0504d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528" name="Text Box 19"/>
            <p:cNvSpPr/>
            <p:nvPr/>
          </p:nvSpPr>
          <p:spPr>
            <a:xfrm>
              <a:off x="5268960" y="958680"/>
              <a:ext cx="40932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0000"/>
                  </a:solidFill>
                  <a:latin typeface="Times New Roman"/>
                  <a:ea typeface="新細明體"/>
                </a:rPr>
                <a:t>N</a:t>
              </a:r>
              <a:endParaRPr b="0" lang="en-US" sz="25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grpSp>
        <p:nvGrpSpPr>
          <p:cNvPr id="529" name="Group 20"/>
          <p:cNvGrpSpPr/>
          <p:nvPr/>
        </p:nvGrpSpPr>
        <p:grpSpPr>
          <a:xfrm>
            <a:off x="4038480" y="1584360"/>
            <a:ext cx="1028880" cy="587160"/>
            <a:chOff x="4038480" y="1584360"/>
            <a:chExt cx="1028880" cy="587160"/>
          </a:xfrm>
        </p:grpSpPr>
        <p:sp>
          <p:nvSpPr>
            <p:cNvPr id="530" name="Line 21"/>
            <p:cNvSpPr/>
            <p:nvPr/>
          </p:nvSpPr>
          <p:spPr>
            <a:xfrm flipH="1" flipV="1">
              <a:off x="4038480" y="1904760"/>
              <a:ext cx="1028880" cy="266760"/>
            </a:xfrm>
            <a:prstGeom prst="line">
              <a:avLst/>
            </a:prstGeom>
            <a:ln w="28440">
              <a:solidFill>
                <a:srgbClr val="c0504d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531" name="Text Box 22"/>
            <p:cNvSpPr/>
            <p:nvPr/>
          </p:nvSpPr>
          <p:spPr>
            <a:xfrm>
              <a:off x="4424400" y="1584360"/>
              <a:ext cx="37440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0000"/>
                  </a:solidFill>
                  <a:latin typeface="Times New Roman"/>
                  <a:ea typeface="新細明體"/>
                </a:rPr>
                <a:t>T</a:t>
              </a:r>
              <a:endParaRPr b="0" lang="en-US" sz="25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sp>
        <p:nvSpPr>
          <p:cNvPr id="532" name="Text Box 23"/>
          <p:cNvSpPr/>
          <p:nvPr/>
        </p:nvSpPr>
        <p:spPr>
          <a:xfrm>
            <a:off x="4040640" y="1935000"/>
            <a:ext cx="3207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r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3" name="Text Box 24"/>
          <p:cNvSpPr/>
          <p:nvPr/>
        </p:nvSpPr>
        <p:spPr>
          <a:xfrm>
            <a:off x="5644440" y="2278080"/>
            <a:ext cx="444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m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4" name="Text Box 25"/>
          <p:cNvSpPr/>
          <p:nvPr/>
        </p:nvSpPr>
        <p:spPr>
          <a:xfrm>
            <a:off x="3901680" y="3497400"/>
            <a:ext cx="576720" cy="5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m</a:t>
            </a:r>
            <a:r>
              <a:rPr b="1" lang="en-US" sz="2500" spc="-1" strike="noStrike" baseline="-25000">
                <a:solidFill>
                  <a:srgbClr val="000000"/>
                </a:solidFill>
                <a:latin typeface="Times New Roman"/>
                <a:ea typeface="新細明體"/>
              </a:rPr>
              <a:t>w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5" name="Text Box 26"/>
          <p:cNvSpPr/>
          <p:nvPr/>
        </p:nvSpPr>
        <p:spPr>
          <a:xfrm>
            <a:off x="6550920" y="1630440"/>
            <a:ext cx="1372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  <a:ea typeface="新細明體"/>
              </a:rPr>
              <a:t>N = </a:t>
            </a:r>
            <a:r>
              <a:rPr b="1" lang="en-US" sz="3000" spc="-1" strike="noStrike">
                <a:solidFill>
                  <a:srgbClr val="003399"/>
                </a:solidFill>
                <a:latin typeface="Times New Roman"/>
                <a:ea typeface="新細明體"/>
              </a:rPr>
              <a:t>mg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6" name="Text Box 27"/>
          <p:cNvSpPr/>
          <p:nvPr/>
        </p:nvSpPr>
        <p:spPr>
          <a:xfrm>
            <a:off x="6479280" y="2316240"/>
            <a:ext cx="2335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  <a:ea typeface="新細明體"/>
              </a:rPr>
              <a:t>Net force = T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7" name="Text Box 28"/>
          <p:cNvSpPr/>
          <p:nvPr/>
        </p:nvSpPr>
        <p:spPr>
          <a:xfrm>
            <a:off x="6507360" y="3032280"/>
            <a:ext cx="22777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0504d"/>
                </a:solidFill>
                <a:latin typeface="Times New Roman"/>
                <a:ea typeface="新細明體"/>
              </a:rPr>
              <a:t>F = ma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0504d"/>
                </a:solidFill>
                <a:latin typeface="Times New Roman"/>
                <a:ea typeface="新細明體"/>
              </a:rPr>
              <a:t>T = m (v</a:t>
            </a:r>
            <a:r>
              <a:rPr b="1" lang="en-US" sz="3000" spc="-1" strike="noStrike" baseline="30000">
                <a:solidFill>
                  <a:srgbClr val="c0504d"/>
                </a:solidFill>
                <a:latin typeface="Times New Roman"/>
                <a:ea typeface="新細明體"/>
              </a:rPr>
              <a:t>2</a:t>
            </a:r>
            <a:r>
              <a:rPr b="1" lang="en-US" sz="3000" spc="-1" strike="noStrike">
                <a:solidFill>
                  <a:srgbClr val="c0504d"/>
                </a:solidFill>
                <a:latin typeface="Times New Roman"/>
                <a:ea typeface="新細明體"/>
              </a:rPr>
              <a:t> / r)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8" name="Text Box 30"/>
          <p:cNvSpPr/>
          <p:nvPr/>
        </p:nvSpPr>
        <p:spPr>
          <a:xfrm>
            <a:off x="638280" y="4400640"/>
            <a:ext cx="5452920" cy="1077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 = 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  <a:ea typeface="新細明體"/>
              </a:rPr>
              <a:t>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Lucida Sans Unicode"/>
                <a:ea typeface="新細明體"/>
              </a:rPr>
              <a:t>w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g as it is at rest.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m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  <a:ea typeface="新細明體"/>
              </a:rPr>
              <a:t>w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g = m v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  <a:ea typeface="新細明體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/ r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9" name="Text Box 31"/>
          <p:cNvSpPr/>
          <p:nvPr/>
        </p:nvSpPr>
        <p:spPr>
          <a:xfrm>
            <a:off x="6629400" y="1066680"/>
            <a:ext cx="160020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Lucida Sans Unicode"/>
              </a:rPr>
              <a:t>w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= mass (downward)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5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2"/>
          <p:cNvSpPr/>
          <p:nvPr/>
        </p:nvSpPr>
        <p:spPr>
          <a:xfrm>
            <a:off x="343080" y="168120"/>
            <a:ext cx="342720" cy="397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1" name="Text Box 3"/>
          <p:cNvSpPr/>
          <p:nvPr/>
        </p:nvSpPr>
        <p:spPr>
          <a:xfrm>
            <a:off x="341280" y="168120"/>
            <a:ext cx="310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Uniform Circular motion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2" name="Text Box 4"/>
          <p:cNvSpPr/>
          <p:nvPr/>
        </p:nvSpPr>
        <p:spPr>
          <a:xfrm>
            <a:off x="835920" y="565200"/>
            <a:ext cx="467208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imes New Roman"/>
                <a:ea typeface="新細明體"/>
              </a:rPr>
              <a:t>Uniform circular motion in a horizontal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新細明體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Times New Roman"/>
                <a:ea typeface="新細明體"/>
              </a:rPr>
              <a:t>plane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543" name="Group 5"/>
          <p:cNvGrpSpPr/>
          <p:nvPr/>
        </p:nvGrpSpPr>
        <p:grpSpPr>
          <a:xfrm>
            <a:off x="343080" y="1081080"/>
            <a:ext cx="4228920" cy="1824840"/>
            <a:chOff x="343080" y="1081080"/>
            <a:chExt cx="4228920" cy="1824840"/>
          </a:xfrm>
        </p:grpSpPr>
        <p:sp>
          <p:nvSpPr>
            <p:cNvPr id="544" name="Line 6"/>
            <p:cNvSpPr/>
            <p:nvPr/>
          </p:nvSpPr>
          <p:spPr>
            <a:xfrm>
              <a:off x="2457360" y="1530000"/>
              <a:ext cx="0" cy="971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545" name="AutoShape 7"/>
            <p:cNvSpPr/>
            <p:nvPr/>
          </p:nvSpPr>
          <p:spPr>
            <a:xfrm>
              <a:off x="343080" y="1118520"/>
              <a:ext cx="4228920" cy="941040"/>
            </a:xfrm>
            <a:prstGeom prst="parallelogram">
              <a:avLst>
                <a:gd name="adj" fmla="val 112347"/>
              </a:avLst>
            </a:prstGeom>
            <a:solidFill>
              <a:srgbClr val="4f81b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546" name="Oval 8"/>
            <p:cNvSpPr/>
            <p:nvPr/>
          </p:nvSpPr>
          <p:spPr>
            <a:xfrm>
              <a:off x="1242000" y="1220760"/>
              <a:ext cx="2430360" cy="6624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547" name="Line 9"/>
            <p:cNvSpPr/>
            <p:nvPr/>
          </p:nvSpPr>
          <p:spPr>
            <a:xfrm>
              <a:off x="2457360" y="1530000"/>
              <a:ext cx="972000" cy="220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548" name="Oval 10"/>
            <p:cNvSpPr/>
            <p:nvPr/>
          </p:nvSpPr>
          <p:spPr>
            <a:xfrm>
              <a:off x="3356640" y="1684800"/>
              <a:ext cx="145800" cy="132480"/>
            </a:xfrm>
            <a:prstGeom prst="ellipse">
              <a:avLst/>
            </a:prstGeom>
            <a:solidFill>
              <a:srgbClr val="1f497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549" name="Rectangle 11"/>
            <p:cNvSpPr/>
            <p:nvPr/>
          </p:nvSpPr>
          <p:spPr>
            <a:xfrm>
              <a:off x="2340720" y="2413440"/>
              <a:ext cx="232560" cy="176400"/>
            </a:xfrm>
            <a:prstGeom prst="rect">
              <a:avLst/>
            </a:prstGeom>
            <a:solidFill>
              <a:srgbClr val="1f497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550" name="Line 12"/>
            <p:cNvSpPr/>
            <p:nvPr/>
          </p:nvSpPr>
          <p:spPr>
            <a:xfrm flipV="1">
              <a:off x="3502440" y="1529640"/>
              <a:ext cx="364320" cy="154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551" name="Text Box 13"/>
            <p:cNvSpPr/>
            <p:nvPr/>
          </p:nvSpPr>
          <p:spPr>
            <a:xfrm>
              <a:off x="3839760" y="1355040"/>
              <a:ext cx="27684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imes New Roman"/>
                  <a:ea typeface="新細明體"/>
                </a:rPr>
                <a:t>v</a:t>
              </a:r>
              <a:endParaRPr b="0" lang="en-US" sz="15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552" name="Line 14"/>
            <p:cNvSpPr/>
            <p:nvPr/>
          </p:nvSpPr>
          <p:spPr>
            <a:xfrm flipV="1">
              <a:off x="3429360" y="1220760"/>
              <a:ext cx="0" cy="529920"/>
            </a:xfrm>
            <a:prstGeom prst="line">
              <a:avLst/>
            </a:prstGeom>
            <a:ln w="28440">
              <a:solidFill>
                <a:srgbClr val="c0504d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553" name="Line 15"/>
            <p:cNvSpPr/>
            <p:nvPr/>
          </p:nvSpPr>
          <p:spPr>
            <a:xfrm>
              <a:off x="3429360" y="1817280"/>
              <a:ext cx="0" cy="507600"/>
            </a:xfrm>
            <a:prstGeom prst="line">
              <a:avLst/>
            </a:prstGeom>
            <a:ln w="28440">
              <a:solidFill>
                <a:srgbClr val="c0504d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554" name="Line 16"/>
            <p:cNvSpPr/>
            <p:nvPr/>
          </p:nvSpPr>
          <p:spPr>
            <a:xfrm flipH="1" flipV="1">
              <a:off x="2700000" y="1529640"/>
              <a:ext cx="656280" cy="154440"/>
            </a:xfrm>
            <a:prstGeom prst="line">
              <a:avLst/>
            </a:prstGeom>
            <a:ln w="28440">
              <a:solidFill>
                <a:srgbClr val="c0504d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555" name="Text Box 17"/>
            <p:cNvSpPr/>
            <p:nvPr/>
          </p:nvSpPr>
          <p:spPr>
            <a:xfrm>
              <a:off x="3460320" y="2326680"/>
              <a:ext cx="42444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0000"/>
                  </a:solidFill>
                  <a:latin typeface="Times New Roman"/>
                  <a:ea typeface="新細明體"/>
                </a:rPr>
                <a:t>mg</a:t>
              </a:r>
              <a:endParaRPr b="0" lang="en-US" sz="15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556" name="Text Box 18"/>
            <p:cNvSpPr/>
            <p:nvPr/>
          </p:nvSpPr>
          <p:spPr>
            <a:xfrm>
              <a:off x="3456360" y="1081080"/>
              <a:ext cx="31788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0000"/>
                  </a:solidFill>
                  <a:latin typeface="Times New Roman"/>
                  <a:ea typeface="新細明體"/>
                </a:rPr>
                <a:t>N</a:t>
              </a:r>
              <a:endParaRPr b="0" lang="en-US" sz="15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557" name="Text Box 19"/>
            <p:cNvSpPr/>
            <p:nvPr/>
          </p:nvSpPr>
          <p:spPr>
            <a:xfrm>
              <a:off x="2917440" y="1442520"/>
              <a:ext cx="29664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0000"/>
                  </a:solidFill>
                  <a:latin typeface="Times New Roman"/>
                  <a:ea typeface="新細明體"/>
                </a:rPr>
                <a:t>T</a:t>
              </a:r>
              <a:endParaRPr b="0" lang="en-US" sz="15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558" name="Text Box 20"/>
            <p:cNvSpPr/>
            <p:nvPr/>
          </p:nvSpPr>
          <p:spPr>
            <a:xfrm>
              <a:off x="2671920" y="1647720"/>
              <a:ext cx="2646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imes New Roman"/>
                  <a:ea typeface="新細明體"/>
                </a:rPr>
                <a:t>r</a:t>
              </a:r>
              <a:endParaRPr b="0" lang="en-US" sz="15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559" name="Text Box 21"/>
            <p:cNvSpPr/>
            <p:nvPr/>
          </p:nvSpPr>
          <p:spPr>
            <a:xfrm>
              <a:off x="3697200" y="1846440"/>
              <a:ext cx="3391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imes New Roman"/>
                  <a:ea typeface="新細明體"/>
                </a:rPr>
                <a:t>m</a:t>
              </a:r>
              <a:endParaRPr b="0" lang="en-US" sz="15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560" name="Text Box 22"/>
            <p:cNvSpPr/>
            <p:nvPr/>
          </p:nvSpPr>
          <p:spPr>
            <a:xfrm>
              <a:off x="2584800" y="2552400"/>
              <a:ext cx="418320" cy="35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imes New Roman"/>
                  <a:ea typeface="新細明體"/>
                </a:rPr>
                <a:t>m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Times New Roman"/>
                  <a:ea typeface="新細明體"/>
                </a:rPr>
                <a:t>w</a:t>
              </a:r>
              <a:endParaRPr b="0" lang="en-US" sz="15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sp>
        <p:nvSpPr>
          <p:cNvPr id="561" name="Text Box 23"/>
          <p:cNvSpPr/>
          <p:nvPr/>
        </p:nvSpPr>
        <p:spPr>
          <a:xfrm>
            <a:off x="6208920" y="655560"/>
            <a:ext cx="2277720" cy="550800"/>
          </a:xfrm>
          <a:prstGeom prst="rect">
            <a:avLst/>
          </a:prstGeom>
          <a:noFill/>
          <a:ln w="2844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99"/>
                </a:solidFill>
                <a:latin typeface="Times New Roman"/>
                <a:ea typeface="新細明體"/>
              </a:rPr>
              <a:t>T = m (v</a:t>
            </a:r>
            <a:r>
              <a:rPr b="1" lang="en-US" sz="3000" spc="-1" strike="noStrike" baseline="30000">
                <a:solidFill>
                  <a:srgbClr val="003399"/>
                </a:solidFill>
                <a:latin typeface="Times New Roman"/>
                <a:ea typeface="新細明體"/>
              </a:rPr>
              <a:t>2</a:t>
            </a:r>
            <a:r>
              <a:rPr b="1" lang="en-US" sz="3000" spc="-1" strike="noStrike">
                <a:solidFill>
                  <a:srgbClr val="003399"/>
                </a:solidFill>
                <a:latin typeface="Times New Roman"/>
                <a:ea typeface="新細明體"/>
              </a:rPr>
              <a:t> / r)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2" name="Text Box 25"/>
          <p:cNvSpPr/>
          <p:nvPr/>
        </p:nvSpPr>
        <p:spPr>
          <a:xfrm>
            <a:off x="489600" y="2887560"/>
            <a:ext cx="6336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 u="sng">
                <a:solidFill>
                  <a:srgbClr val="000000"/>
                </a:solidFill>
                <a:uFillTx/>
                <a:latin typeface="Times New Roman"/>
                <a:ea typeface="新細明體"/>
              </a:rPr>
              <a:t>What is the physical meaning of the formula?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3" name="Text Box 26"/>
          <p:cNvSpPr/>
          <p:nvPr/>
        </p:nvSpPr>
        <p:spPr>
          <a:xfrm>
            <a:off x="308880" y="3360600"/>
            <a:ext cx="8591760" cy="26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3399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imes New Roman"/>
                <a:ea typeface="新細明體"/>
              </a:rPr>
              <a:t>What happens if the initial speed v of the bob is forced to move faster?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 greater T is needed,  the greater m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新細明體"/>
              </a:rPr>
              <a:t>w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to keep the radius of motion r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t will slide out to attain a greater r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457200" indent="-457200">
              <a:lnSpc>
                <a:spcPct val="100000"/>
              </a:lnSpc>
              <a:buClr>
                <a:srgbClr val="003399"/>
              </a:buClr>
              <a:buFont typeface="Times New Roman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imes New Roman"/>
                <a:ea typeface="新細明體"/>
              </a:rPr>
              <a:t>What happens if there is energy lost due to friction on the plane?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v decreases 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  By T = mv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  <a:ea typeface="新細明體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/ r,  r decrease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457200" indent="-457200">
              <a:lnSpc>
                <a:spcPct val="100000"/>
              </a:lnSpc>
              <a:buClr>
                <a:srgbClr val="003399"/>
              </a:buClr>
              <a:buFont typeface="Times New Roman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imes New Roman"/>
                <a:ea typeface="新細明體"/>
              </a:rPr>
              <a:t>What happen if an additional mass is added to the weight m</a:t>
            </a:r>
            <a:r>
              <a:rPr b="1" lang="en-US" sz="2000" spc="-1" strike="noStrike" baseline="-25000">
                <a:solidFill>
                  <a:srgbClr val="003399"/>
                </a:solidFill>
                <a:latin typeface="Times New Roman"/>
                <a:ea typeface="新細明體"/>
              </a:rPr>
              <a:t>w</a:t>
            </a:r>
            <a:r>
              <a:rPr b="1" lang="en-US" sz="2000" spc="-1" strike="noStrike">
                <a:solidFill>
                  <a:srgbClr val="003399"/>
                </a:solidFill>
                <a:latin typeface="Times New Roman"/>
                <a:ea typeface="新細明體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M moves dow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  r  decreases and T increases 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 v increase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5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5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5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5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5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2"/>
          <p:cNvSpPr/>
          <p:nvPr/>
        </p:nvSpPr>
        <p:spPr>
          <a:xfrm>
            <a:off x="343080" y="168120"/>
            <a:ext cx="342720" cy="397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5" name="Text Box 3"/>
          <p:cNvSpPr/>
          <p:nvPr/>
        </p:nvSpPr>
        <p:spPr>
          <a:xfrm>
            <a:off x="4799160" y="152280"/>
            <a:ext cx="310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  <a:ea typeface="新細明體"/>
              </a:rPr>
              <a:t>Uniform Circular motion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6" name="Text Box 4"/>
          <p:cNvSpPr/>
          <p:nvPr/>
        </p:nvSpPr>
        <p:spPr>
          <a:xfrm>
            <a:off x="835920" y="565200"/>
            <a:ext cx="467208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imes New Roman"/>
                <a:ea typeface="新細明體"/>
              </a:rPr>
              <a:t>Uniform circular motion in a horizontal plane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567" name="Group 5"/>
          <p:cNvGrpSpPr/>
          <p:nvPr/>
        </p:nvGrpSpPr>
        <p:grpSpPr>
          <a:xfrm>
            <a:off x="343080" y="1081080"/>
            <a:ext cx="4228920" cy="1793520"/>
            <a:chOff x="343080" y="1081080"/>
            <a:chExt cx="4228920" cy="1793520"/>
          </a:xfrm>
        </p:grpSpPr>
        <p:sp>
          <p:nvSpPr>
            <p:cNvPr id="568" name="Line 6"/>
            <p:cNvSpPr/>
            <p:nvPr/>
          </p:nvSpPr>
          <p:spPr>
            <a:xfrm>
              <a:off x="2457360" y="1530000"/>
              <a:ext cx="0" cy="971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569" name="AutoShape 7"/>
            <p:cNvSpPr/>
            <p:nvPr/>
          </p:nvSpPr>
          <p:spPr>
            <a:xfrm>
              <a:off x="343080" y="1118520"/>
              <a:ext cx="4228920" cy="941040"/>
            </a:xfrm>
            <a:prstGeom prst="parallelogram">
              <a:avLst>
                <a:gd name="adj" fmla="val 112347"/>
              </a:avLst>
            </a:prstGeom>
            <a:solidFill>
              <a:srgbClr val="4f81b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570" name="Oval 8"/>
            <p:cNvSpPr/>
            <p:nvPr/>
          </p:nvSpPr>
          <p:spPr>
            <a:xfrm>
              <a:off x="1242000" y="1220760"/>
              <a:ext cx="2430360" cy="6624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571" name="Line 9"/>
            <p:cNvSpPr/>
            <p:nvPr/>
          </p:nvSpPr>
          <p:spPr>
            <a:xfrm>
              <a:off x="2457360" y="1530000"/>
              <a:ext cx="972000" cy="220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572" name="Oval 10"/>
            <p:cNvSpPr/>
            <p:nvPr/>
          </p:nvSpPr>
          <p:spPr>
            <a:xfrm>
              <a:off x="3356640" y="1684800"/>
              <a:ext cx="145800" cy="132480"/>
            </a:xfrm>
            <a:prstGeom prst="ellipse">
              <a:avLst/>
            </a:prstGeom>
            <a:solidFill>
              <a:srgbClr val="1f497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573" name="Rectangle 11"/>
            <p:cNvSpPr/>
            <p:nvPr/>
          </p:nvSpPr>
          <p:spPr>
            <a:xfrm>
              <a:off x="2340720" y="2413440"/>
              <a:ext cx="232560" cy="176400"/>
            </a:xfrm>
            <a:prstGeom prst="rect">
              <a:avLst/>
            </a:prstGeom>
            <a:solidFill>
              <a:srgbClr val="1f497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574" name="Line 12"/>
            <p:cNvSpPr/>
            <p:nvPr/>
          </p:nvSpPr>
          <p:spPr>
            <a:xfrm flipV="1">
              <a:off x="3502440" y="1529640"/>
              <a:ext cx="364320" cy="154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575" name="Text Box 13"/>
            <p:cNvSpPr/>
            <p:nvPr/>
          </p:nvSpPr>
          <p:spPr>
            <a:xfrm>
              <a:off x="3839760" y="1355040"/>
              <a:ext cx="27684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imes New Roman"/>
                  <a:ea typeface="新細明體"/>
                </a:rPr>
                <a:t>v</a:t>
              </a:r>
              <a:endParaRPr b="0" lang="en-US" sz="15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576" name="Line 14"/>
            <p:cNvSpPr/>
            <p:nvPr/>
          </p:nvSpPr>
          <p:spPr>
            <a:xfrm flipV="1">
              <a:off x="3429360" y="1220760"/>
              <a:ext cx="0" cy="529920"/>
            </a:xfrm>
            <a:prstGeom prst="line">
              <a:avLst/>
            </a:prstGeom>
            <a:ln w="28440">
              <a:solidFill>
                <a:srgbClr val="c0504d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577" name="Line 15"/>
            <p:cNvSpPr/>
            <p:nvPr/>
          </p:nvSpPr>
          <p:spPr>
            <a:xfrm>
              <a:off x="3429360" y="1817280"/>
              <a:ext cx="0" cy="507600"/>
            </a:xfrm>
            <a:prstGeom prst="line">
              <a:avLst/>
            </a:prstGeom>
            <a:ln w="28440">
              <a:solidFill>
                <a:srgbClr val="c0504d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578" name="Line 16"/>
            <p:cNvSpPr/>
            <p:nvPr/>
          </p:nvSpPr>
          <p:spPr>
            <a:xfrm flipH="1" flipV="1">
              <a:off x="2700000" y="1529640"/>
              <a:ext cx="656280" cy="154440"/>
            </a:xfrm>
            <a:prstGeom prst="line">
              <a:avLst/>
            </a:prstGeom>
            <a:ln w="28440">
              <a:solidFill>
                <a:srgbClr val="c0504d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579" name="Text Box 17"/>
            <p:cNvSpPr/>
            <p:nvPr/>
          </p:nvSpPr>
          <p:spPr>
            <a:xfrm>
              <a:off x="3460320" y="2326680"/>
              <a:ext cx="42444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0000"/>
                  </a:solidFill>
                  <a:latin typeface="Times New Roman"/>
                  <a:ea typeface="新細明體"/>
                </a:rPr>
                <a:t>mg</a:t>
              </a:r>
              <a:endParaRPr b="0" lang="en-US" sz="15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580" name="Text Box 18"/>
            <p:cNvSpPr/>
            <p:nvPr/>
          </p:nvSpPr>
          <p:spPr>
            <a:xfrm>
              <a:off x="3456360" y="1081080"/>
              <a:ext cx="31788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0000"/>
                  </a:solidFill>
                  <a:latin typeface="Times New Roman"/>
                  <a:ea typeface="新細明體"/>
                </a:rPr>
                <a:t>N</a:t>
              </a:r>
              <a:endParaRPr b="0" lang="en-US" sz="15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581" name="Text Box 19"/>
            <p:cNvSpPr/>
            <p:nvPr/>
          </p:nvSpPr>
          <p:spPr>
            <a:xfrm>
              <a:off x="2917440" y="1442520"/>
              <a:ext cx="29664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0000"/>
                  </a:solidFill>
                  <a:latin typeface="Times New Roman"/>
                  <a:ea typeface="新細明體"/>
                </a:rPr>
                <a:t>T</a:t>
              </a:r>
              <a:endParaRPr b="0" lang="en-US" sz="15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582" name="Text Box 20"/>
            <p:cNvSpPr/>
            <p:nvPr/>
          </p:nvSpPr>
          <p:spPr>
            <a:xfrm>
              <a:off x="2671920" y="1647720"/>
              <a:ext cx="2646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imes New Roman"/>
                  <a:ea typeface="新細明體"/>
                </a:rPr>
                <a:t>r</a:t>
              </a:r>
              <a:endParaRPr b="0" lang="en-US" sz="15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583" name="Text Box 21"/>
            <p:cNvSpPr/>
            <p:nvPr/>
          </p:nvSpPr>
          <p:spPr>
            <a:xfrm>
              <a:off x="3697200" y="1846440"/>
              <a:ext cx="3391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imes New Roman"/>
                  <a:ea typeface="新細明體"/>
                </a:rPr>
                <a:t>m</a:t>
              </a:r>
              <a:endParaRPr b="0" lang="en-US" sz="15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584" name="Text Box 22"/>
            <p:cNvSpPr/>
            <p:nvPr/>
          </p:nvSpPr>
          <p:spPr>
            <a:xfrm>
              <a:off x="2614320" y="2552400"/>
              <a:ext cx="3607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imes New Roman"/>
                  <a:ea typeface="新細明體"/>
                </a:rPr>
                <a:t>M</a:t>
              </a:r>
              <a:endParaRPr b="0" lang="en-US" sz="15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sp>
        <p:nvSpPr>
          <p:cNvPr id="585" name="Text Box 23"/>
          <p:cNvSpPr/>
          <p:nvPr/>
        </p:nvSpPr>
        <p:spPr>
          <a:xfrm>
            <a:off x="6208920" y="655560"/>
            <a:ext cx="2277720" cy="550800"/>
          </a:xfrm>
          <a:prstGeom prst="rect">
            <a:avLst/>
          </a:prstGeom>
          <a:noFill/>
          <a:ln w="2844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0504d"/>
                </a:solidFill>
                <a:latin typeface="Times New Roman"/>
                <a:ea typeface="新細明體"/>
              </a:rPr>
              <a:t>T = m (v</a:t>
            </a:r>
            <a:r>
              <a:rPr b="1" lang="en-US" sz="3000" spc="-1" strike="noStrike" baseline="30000">
                <a:solidFill>
                  <a:srgbClr val="c0504d"/>
                </a:solidFill>
                <a:latin typeface="Times New Roman"/>
                <a:ea typeface="新細明體"/>
              </a:rPr>
              <a:t>2</a:t>
            </a:r>
            <a:r>
              <a:rPr b="1" lang="en-US" sz="3000" spc="-1" strike="noStrike">
                <a:solidFill>
                  <a:srgbClr val="c0504d"/>
                </a:solidFill>
                <a:latin typeface="Times New Roman"/>
                <a:ea typeface="新細明體"/>
              </a:rPr>
              <a:t> / r)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6" name="Text Box 25"/>
          <p:cNvSpPr/>
          <p:nvPr/>
        </p:nvSpPr>
        <p:spPr>
          <a:xfrm>
            <a:off x="489600" y="2887560"/>
            <a:ext cx="6336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 u="sng">
                <a:solidFill>
                  <a:srgbClr val="000000"/>
                </a:solidFill>
                <a:uFillTx/>
                <a:latin typeface="Times New Roman"/>
                <a:ea typeface="新細明體"/>
              </a:rPr>
              <a:t>What is the physical meaning of the formula?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7" name="Text Box 26"/>
          <p:cNvSpPr/>
          <p:nvPr/>
        </p:nvSpPr>
        <p:spPr>
          <a:xfrm>
            <a:off x="459360" y="3809880"/>
            <a:ext cx="79700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504d"/>
                </a:solidFill>
                <a:latin typeface="Times New Roman"/>
                <a:ea typeface="新細明體"/>
              </a:rPr>
              <a:t>(4)   </a:t>
            </a:r>
            <a:r>
              <a:rPr b="1" lang="en-US" sz="2000" spc="-1" strike="noStrike">
                <a:solidFill>
                  <a:srgbClr val="003399"/>
                </a:solidFill>
                <a:latin typeface="Times New Roman"/>
                <a:ea typeface="新細明體"/>
              </a:rPr>
              <a:t>What happens if the string suddenly break</a:t>
            </a:r>
            <a:r>
              <a:rPr b="1" lang="en-US" sz="2000" spc="-1" strike="noStrike">
                <a:solidFill>
                  <a:srgbClr val="c0504d"/>
                </a:solidFill>
                <a:latin typeface="Times New Roman"/>
                <a:ea typeface="新細明體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     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ension suddenly disappears and there is no more centripetal force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No more circular motion can be maintained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bob will move with its velocity tangent to the circle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t the instant the string breaks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5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5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5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5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5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8" name="Rectangle 2" descr=""/>
          <p:cNvPicPr/>
          <p:nvPr/>
        </p:nvPicPr>
        <p:blipFill>
          <a:blip r:embed="rId1"/>
          <a:stretch/>
        </p:blipFill>
        <p:spPr>
          <a:xfrm>
            <a:off x="195120" y="49320"/>
            <a:ext cx="8498160" cy="871560"/>
          </a:xfrm>
          <a:prstGeom prst="rect">
            <a:avLst/>
          </a:prstGeom>
          <a:ln w="0">
            <a:noFill/>
          </a:ln>
        </p:spPr>
      </p:pic>
      <p:sp>
        <p:nvSpPr>
          <p:cNvPr id="589" name="PlaceHolder 1"/>
          <p:cNvSpPr>
            <a:spLocks noGrp="1"/>
          </p:cNvSpPr>
          <p:nvPr>
            <p:ph/>
          </p:nvPr>
        </p:nvSpPr>
        <p:spPr>
          <a:xfrm>
            <a:off x="228240" y="1295280"/>
            <a:ext cx="4033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Lucida Sans Unicode"/>
              </a:rPr>
              <a:t>When we see an object carrying out circular motion, we know that there must be force acting on the object, directed towards the center of the circle.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Lucida Sans Unicode"/>
              </a:rPr>
              <a:t>When you look at the circular motion of a ball attached to a string, the force is provided by the tension in the string.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Lucida Sans Unicode"/>
              </a:rPr>
              <a:t>When the force responsible for the circular motion disappears, e.g. by cutting the string, the motion will become linear.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90" name="Picture 4" descr=""/>
          <p:cNvPicPr/>
          <p:nvPr/>
        </p:nvPicPr>
        <p:blipFill>
          <a:blip r:embed="rId2"/>
          <a:stretch/>
        </p:blipFill>
        <p:spPr>
          <a:xfrm>
            <a:off x="5270400" y="1600200"/>
            <a:ext cx="2797200" cy="218124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5" descr=""/>
          <p:cNvPicPr/>
          <p:nvPr/>
        </p:nvPicPr>
        <p:blipFill>
          <a:blip r:embed="rId3"/>
          <a:stretch/>
        </p:blipFill>
        <p:spPr>
          <a:xfrm>
            <a:off x="5268960" y="3944880"/>
            <a:ext cx="2797200" cy="218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6T18:52:04Z</dcterms:created>
  <dc:creator> </dc:creator>
  <dc:description/>
  <dc:language>en-US</dc:language>
  <cp:lastModifiedBy> </cp:lastModifiedBy>
  <dcterms:modified xsi:type="dcterms:W3CDTF">2009-07-17T16:32:06Z</dcterms:modified>
  <cp:revision>34</cp:revision>
  <dc:subject/>
  <dc:title>Physics  cdupre  Circular Motion </dc:title>
</cp:coreProperties>
</file>